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6235-0459-45BB-8883-FC9DD400E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23C7-3DFF-42E0-9D83-A44679A34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379C-5FF8-4466-B2C1-2A3ED0037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3C28-C3CD-4592-8CF3-2CE094412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4E002-FFD0-40D5-8FF3-68E480F80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906EF-3054-403A-AF8F-C60C5A63F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89358-A1A5-4038-AC92-46B9CC938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1EA71-FAA4-48C8-98C5-9720A8BBA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06518-BA24-41BA-A3E5-892BC3CCA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44622-E596-486D-A771-61D6A444B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1B127-47D2-44E1-895C-C0B4BF03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BE65-4F1A-4F31-B6B6-F6B1EE989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B8F3D-503F-4291-BB65-1FAE6F91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BFD12-4CDC-48B7-8C29-E68142F3B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B735A-843E-4142-8801-7C0FF2B0F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7D91E-985E-4607-98FC-DE3E2B7B8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43A46-3D95-458A-97C5-090F72390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F277-7F10-48F1-B1D8-677F00F4F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8118-1488-4A28-A72B-B853DFD3C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5092-8F6D-42B8-81A2-08E2660BA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07E4-7039-4D30-BE61-26731ED16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BB52-5679-4F0E-8EA9-1E10D9937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990A-5E3B-45C0-A202-5664F403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0348-5D0C-42F3-B12B-1F7F50A62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b8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0B553-3EE1-4F46-A8A4-8AEFF12DC37F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b8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ED06B-9E5B-4DDA-81E5-85CA18FAA2AC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nswers.com/topic/john-dewey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b8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9144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pperplate Gothic Bold"/>
              </a:rPr>
              <a:t>John Dewe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752480" y="4724280"/>
            <a:ext cx="647712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ED 530 Theorist Present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Spring Semester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Crystale Get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581280" y="22860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b8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pperplate Gothic Bold"/>
              </a:rPr>
              <a:t>Referenc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pperplate Gothic Bold"/>
              </a:rPr>
              <a:t>Neill, James; John Dewey: Philosophy of Education, viewed Jan. 2 2010, updated Jan 26, 2005  www.wilderdom.com/experiential/JohnDeweyPhilosophyEducation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pperplate Gothic Bold"/>
              </a:rPr>
              <a:t>Asiado, Tel; John Dewey: Pragmatism, viewed Jan. 2 2010, Nov 8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opperplate Gothic Bold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Copperplate Gothic Bold"/>
              </a:rPr>
              <a:t>, 2007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pperplate Gothic Bold"/>
              </a:rPr>
              <a:t>www.greatphilosophers.suite101.com/article.cfm/john_dewey_pragmati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pperplate Gothic Bold"/>
              </a:rPr>
              <a:t>Olsen, Shawn; John Dewey, viewed Jan 2, 2010, updated August 25, 2005  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pperplate Gothic Bold"/>
              </a:rPr>
              <a:t>www.johndewey.shawnolson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pperplate Gothic Bold"/>
              </a:rPr>
              <a:t>Instrumentalism; viewed Jan 2,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pperplate Gothic Bold"/>
              </a:rPr>
              <a:t>http://www.answers.com/topic/instrumentali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pperplate Gothic Bold"/>
              </a:rPr>
              <a:t>The Philosophy of John Dewey; viewed Jan 2, 2010, updated 2002-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pperplate Gothic Bold"/>
              </a:rPr>
              <a:t>www.radicalacademy.com/phildewey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b8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pperplate Gothic Bold"/>
              </a:rPr>
              <a:t>Background</a:t>
            </a:r>
            <a:r>
              <a:rPr b="0" lang="en-US" sz="54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pperplate Gothic Bold"/>
              </a:rPr>
              <a:t>Born October 20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pperplate Gothic Bold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Copperplate Gothic Bold"/>
              </a:rPr>
              <a:t> 1859 in Burlington Vermo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pperplate Gothic Bold"/>
              </a:rPr>
              <a:t>At the age of 16 he went to University of Vermo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pperplate Gothic Bold"/>
              </a:rPr>
              <a:t>After graduation he was a high school teacher for three yea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pperplate Gothic Bold"/>
              </a:rPr>
              <a:t>At the age of 23 he started his graduate work at John Hopkins Univers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pperplate Gothic Bold"/>
              </a:rPr>
              <a:t>Died in New York City on June 1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pperplate Gothic Bold"/>
              </a:rPr>
              <a:t>st</a:t>
            </a:r>
            <a:r>
              <a:rPr b="0" lang="en-US" sz="2600" spc="-1" strike="noStrike">
                <a:solidFill>
                  <a:srgbClr val="000000"/>
                </a:solidFill>
                <a:latin typeface="Copperplate Gothic Bold"/>
              </a:rPr>
              <a:t> 195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b8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pperplate Gothic Bold"/>
              </a:rPr>
              <a:t>Instrumentalis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pperplate Gothic Bold"/>
              </a:rPr>
              <a:t>Dewey’s philosophy of Education stressed these influenc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 Gothic Bold"/>
              </a:rPr>
              <a:t>Development of the p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 Gothic Bold"/>
              </a:rPr>
              <a:t>Understanding of the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 Gothic Bold"/>
              </a:rPr>
              <a:t>Learning through 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b8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pperplate Gothic Bold"/>
              </a:rPr>
              <a:t>Instrumentalis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 Gothic Bold"/>
              </a:rPr>
              <a:t>Is the philosophical teaching of Dewey in its theoretical a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 Gothic Bold"/>
              </a:rPr>
              <a:t>Affirms that cognition consists in forging ideal tools or instruments with which to cope with a given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 Gothic Bold"/>
              </a:rPr>
              <a:t>Dewey believes that the mind is an instrument for realizing purpo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pperplate Gothic Bold"/>
              </a:rPr>
              <a:t>Ideas are teleological weapons of min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pperplate Gothic Bold"/>
              </a:rPr>
              <a:t>Ideas are plastic and adap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b8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pperplate Gothic Bold"/>
              </a:rPr>
              <a:t>Instrumentalis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pperplate Gothic Bold"/>
              </a:rPr>
              <a:t>Believes that truth is an instrument used by human beings to solve their probl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pperplate Gothic Bold"/>
              </a:rPr>
              <a:t>Experimental approaches in the classro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pperplate Gothic Bold"/>
              </a:rPr>
              <a:t>Students will learn from experience, using those tools to achieve future experie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pperplate Gothic Bold"/>
              </a:rPr>
              <a:t>Theory was structured around the scientific metho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b8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pperplate Gothic Bold"/>
              </a:rPr>
              <a:t>Instrumentalism related to Pragmatis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47560" y="24382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pperplate Gothic Bold"/>
              </a:rPr>
              <a:t>Instrumentalism relates closely to pragmatism, especially in the work of John</a:t>
            </a:r>
            <a:r>
              <a:rPr b="0" lang="en-US" sz="2200" spc="-1" strike="noStrike" u="sng">
                <a:solidFill>
                  <a:srgbClr val="006666"/>
                </a:solidFill>
                <a:uFillTx/>
                <a:latin typeface="Copperplate Gothic Bold"/>
                <a:hlinkClick r:id="rId1"/>
              </a:rPr>
              <a:t>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opperplate Gothic Bold"/>
              </a:rPr>
              <a:t>Dewey and his student Addison Webster Moor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pperplate Gothic Bold"/>
              </a:rPr>
              <a:t>instrumentalism is more of a pragmatic approach to science, information and theories than an ontological statemen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pperplate Gothic Bold"/>
              </a:rPr>
              <a:t>Often instrumentalists (like pragmatists) have been accused of being relativists, even though many instrumentalists are also believers in sturdy objective realism.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b8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pperplate Gothic Bold"/>
              </a:rPr>
              <a:t>Influences Toward Pragmatism For Dewe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3880" y="228600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pperplate Gothic Bold"/>
              </a:rPr>
              <a:t>Biological Doctrines of T.H. Huxley and the philosophy of Hegel (these significant influences installed ideas in which he proved a fixed resolve that these dualisms should be opposed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ccccc"/>
              </a:buClr>
              <a:buFont typeface="Copperplate Gothic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pperplate Gothic Bold"/>
              </a:rPr>
              <a:t>Matter and m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ccccc"/>
              </a:buClr>
              <a:buFont typeface="Copperplate Gothic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pperplate Gothic Bold"/>
              </a:rPr>
              <a:t>Experience and necess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ccccc"/>
              </a:buClr>
              <a:buFont typeface="Copperplate Gothic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pperplate Gothic Bold"/>
              </a:rPr>
              <a:t>Fact and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b8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pperplate Gothic Bold"/>
              </a:rPr>
              <a:t>Pragmatis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pperplate Gothic Bold"/>
              </a:rPr>
              <a:t>Definition – a philosophical view of human knowledge and thought as being biological in nature; in modern psychological terms; it is equivalent to the gestalt or paradigm theory of knowledge - - - it could imply that there is no objectivity to knowled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b8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pperplate Gothic Bold"/>
              </a:rPr>
              <a:t>Achievemen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pperplate Gothic Bold"/>
              </a:rPr>
              <a:t>Known as the Father of Experiential Education Mov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pperplate Gothic Bold"/>
              </a:rPr>
              <a:t>Lectured all over the world and prepared educational surveys for Turkey, Mexico and the Soviet Un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pperplate Gothic Bold"/>
              </a:rPr>
              <a:t>Rejected authoritarian teaching metho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pperplate Gothic Bold"/>
              </a:rPr>
              <a:t>Major Books includ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pperplate Gothic Bold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opperplate Gothic Bold"/>
              </a:rPr>
              <a:t>Democracy and Educat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pperplate Gothic Bold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opperplate Gothic Bold"/>
              </a:rPr>
              <a:t>Logic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pperplate Gothic Bold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opperplate Gothic Bold"/>
              </a:rPr>
              <a:t>Experience and Educat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23:00:29Z</dcterms:created>
  <dc:creator>Kend</dc:creator>
  <dc:description/>
  <dc:language>en-US</dc:language>
  <cp:lastModifiedBy>Kend</cp:lastModifiedBy>
  <dcterms:modified xsi:type="dcterms:W3CDTF">2010-02-03T02:25:07Z</dcterms:modified>
  <cp:revision>8</cp:revision>
  <dc:subject/>
  <dc:title>Slide 1</dc:title>
</cp:coreProperties>
</file>