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EC9F-1360-4023-8C93-2E9625B43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F7E6-019B-486B-A5B3-6FCF272FC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DBD2-2B2B-4222-8F78-FC6AD8875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86C7-5FC8-4097-B3BA-9CA7C0173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43223-D9C2-4952-9175-7BAA3BF86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B4459-B401-4948-AA36-5CCDB3D61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06232-0A85-4932-BE01-42466838C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63ECB-DC93-4A2D-A0F1-E4D0EDAC7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BAB5A-3584-4154-9D93-8B65611C6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752B6-1866-4D6D-9574-58612C19D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962AF-93B9-4CA6-AB44-FDDBB4735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2119-557D-466C-9E9C-AB5598252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4800A-C064-4292-BCB1-000ACF05F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037D8-6775-477F-928D-1CD4728B5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A3E74-F2C1-4302-A75F-40AE0A6AC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6DD54-1A74-4185-BB33-E7B66B8A3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CB5D9-2EC4-4280-9468-FC0827D13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6FFB-97A3-471E-9562-E4C4D6385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8658-F3FB-40C6-9CB2-289D579B3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3F91-666E-4F28-8591-A75603AF8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D771-42E9-4DFD-B43C-2A04FC4FA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8CC5-354E-4E0E-9631-377BC5E8C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E612-84C8-4A15-9DBE-6845C2B75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F1E8-2ECA-4A67-9134-BE566A0C9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b8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7CF58-D1CC-4986-9D9D-97DA1B3BBF1F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b8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02682-A698-4DFE-9A03-7F1847BE6A06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nswers.com/topic/john-dewey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b8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360" y="9144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pperplate Gothic Bold"/>
              </a:rPr>
              <a:t>John Dewe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752480" y="4724280"/>
            <a:ext cx="647712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Bold"/>
              </a:rPr>
              <a:t>ED 530 Theorist Present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Bold"/>
              </a:rPr>
              <a:t>Spring Semester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Bold"/>
              </a:rPr>
              <a:t>Crystale Get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581280" y="22860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b8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pperplate Gothic Bold"/>
              </a:rPr>
              <a:t>Referenc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pperplate Gothic Bold"/>
              </a:rPr>
              <a:t>Neill, James; John Dewey: Philosophy of Education, viewed Jan. 2 2010, updated Jan 26, 2005  www.wilderdom.com/experiential/JohnDeweyPhilosophyEducation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pperplate Gothic Bold"/>
              </a:rPr>
              <a:t>Asiado, Tel; John Dewey: Pragmatism, viewed Jan. 2 2010, Nov 8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opperplate Gothic Bold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Copperplate Gothic Bold"/>
              </a:rPr>
              <a:t>, 2007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pperplate Gothic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pperplate Gothic Bold"/>
              </a:rPr>
              <a:t>www.greatphilosophers.suite101.com/article.cfm/john_dewey_pragmatis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pperplate Gothic Bold"/>
              </a:rPr>
              <a:t>Olsen, Shawn; John Dewey, viewed Jan 2, 2010, updated August 25, 2005  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pperplate Gothic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pperplate Gothic Bold"/>
              </a:rPr>
              <a:t>www.johndewey.shawnolson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pperplate Gothic Bold"/>
              </a:rPr>
              <a:t>Instrumentalism; viewed Jan 2,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pperplate Gothic Bold"/>
              </a:rPr>
              <a:t>http://www.answers.com/topic/instrumentalis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pperplate Gothic Bold"/>
              </a:rPr>
              <a:t>The Philosophy of John Dewey; viewed Jan 2, 2010, updated 2002-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pperplate Gothic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pperplate Gothic Bold"/>
              </a:rPr>
              <a:t>www.radicalacademy.com/phildewey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b8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pperplate Gothic Bold"/>
              </a:rPr>
              <a:t>Background</a:t>
            </a:r>
            <a:r>
              <a:rPr b="0" lang="en-US" sz="5400" spc="-1" strike="noStrike">
                <a:solidFill>
                  <a:srgbClr val="000000"/>
                </a:solidFill>
                <a:latin typeface="Copperplate Gothic Bold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pperplate Gothic Bold"/>
              </a:rPr>
              <a:t>Born October 20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pperplate Gothic Bold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Copperplate Gothic Bold"/>
              </a:rPr>
              <a:t> 1859 in Burlington Vermo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pperplate Gothic Bold"/>
              </a:rPr>
              <a:t>At the age of 16 he went to University of Vermo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pperplate Gothic Bold"/>
              </a:rPr>
              <a:t>After graduation he was a high school teacher for three yea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pperplate Gothic Bold"/>
              </a:rPr>
              <a:t>At the age of 23 he started his graduate work at John Hopkins Univers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pperplate Gothic Bold"/>
              </a:rPr>
              <a:t>Died in New York City on June 1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pperplate Gothic Bold"/>
              </a:rPr>
              <a:t>st</a:t>
            </a:r>
            <a:r>
              <a:rPr b="0" lang="en-US" sz="2600" spc="-1" strike="noStrike">
                <a:solidFill>
                  <a:srgbClr val="000000"/>
                </a:solidFill>
                <a:latin typeface="Copperplate Gothic Bold"/>
              </a:rPr>
              <a:t> 195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b8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pperplate Gothic Bold"/>
              </a:rPr>
              <a:t>Instrumentalis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pperplate Gothic Bold"/>
              </a:rPr>
              <a:t>Dewey’s philosophy of Education stressed these influenc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 Gothic Bold"/>
              </a:rPr>
              <a:t>Development of the per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 Gothic Bold"/>
              </a:rPr>
              <a:t>Understanding of the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 Gothic Bold"/>
              </a:rPr>
              <a:t>Learning through exper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b8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pperplate Gothic Bold"/>
              </a:rPr>
              <a:t>Instrumentalis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 Gothic Bold"/>
              </a:rPr>
              <a:t>Is the philosophical teaching of Dewey in its theoretical a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 Gothic Bold"/>
              </a:rPr>
              <a:t>Affirms that cognition consists in forging ideal tools or instruments with which to cope with a given 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 Gothic Bold"/>
              </a:rPr>
              <a:t>Dewey believes that the mind is an instrument for realizing purpo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pperplate Gothic Bold"/>
              </a:rPr>
              <a:t>Ideas are teleological weapons of min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pperplate Gothic Bold"/>
              </a:rPr>
              <a:t>Ideas are plastic and adapt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b8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pperplate Gothic Bold"/>
              </a:rPr>
              <a:t>Instrumentalis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pperplate Gothic Bold"/>
              </a:rPr>
              <a:t>Believes that truth is an instrument used by human beings to solve their probl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pperplate Gothic Bold"/>
              </a:rPr>
              <a:t>Experimental approaches in the classro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pperplate Gothic Bold"/>
              </a:rPr>
              <a:t>Students will learn from experience, using those tools to achieve future experien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pperplate Gothic Bold"/>
              </a:rPr>
              <a:t>Theory was structured around the scientific metho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b8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pperplate Gothic Bold"/>
              </a:rPr>
              <a:t>Instrumentalism related to Pragmatis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47560" y="24382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pperplate Gothic Bold"/>
              </a:rPr>
              <a:t>Instrumentalism relates closely to pragmatism, especially in the work of John</a:t>
            </a:r>
            <a:r>
              <a:rPr b="0" lang="en-US" sz="2200" spc="-1" strike="noStrike" u="sng">
                <a:solidFill>
                  <a:srgbClr val="006666"/>
                </a:solidFill>
                <a:uFillTx/>
                <a:latin typeface="Copperplate Gothic Bold"/>
                <a:hlinkClick r:id="rId1"/>
              </a:rPr>
              <a:t>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opperplate Gothic Bold"/>
              </a:rPr>
              <a:t>Dewey and his student Addison Webster Moor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pperplate Gothic Bold"/>
              </a:rPr>
              <a:t>instrumentalism is more of a pragmatic approach to science, information and theories than an ontological statemen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pperplate Gothic Bold"/>
              </a:rPr>
              <a:t>Often instrumentalists (like pragmatists) have been accused of being relativists, even though many instrumentalists are also believers in sturdy objective realism.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b8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pperplate Gothic Bold"/>
              </a:rPr>
              <a:t>Influences Toward Pragmatism For Dewe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3880" y="228600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pperplate Gothic Bold"/>
              </a:rPr>
              <a:t>Biological Doctrines of T.H. Huxley and the philosophy of Hegel (these significant influences installed ideas in which he proved a fixed resolve that these dualisms should be opposed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ccccc"/>
              </a:buClr>
              <a:buFont typeface="Copperplate Gothic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pperplate Gothic Bold"/>
              </a:rPr>
              <a:t>Matter and mi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ccccc"/>
              </a:buClr>
              <a:buFont typeface="Copperplate Gothic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pperplate Gothic Bold"/>
              </a:rPr>
              <a:t>Experience and necess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ccccc"/>
              </a:buClr>
              <a:buFont typeface="Copperplate Gothic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pperplate Gothic Bold"/>
              </a:rPr>
              <a:t>Fact and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b8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pperplate Gothic Bold"/>
              </a:rPr>
              <a:t>Pragmatis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pperplate Gothic Bold"/>
              </a:rPr>
              <a:t>Definition – a philosophical view of human knowledge and thought as being biological in nature; in modern psychological terms; it is equivalent to the gestalt or paradigm theory of knowledge - - - it could imply that there is no objectivity to knowled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b8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pperplate Gothic Bold"/>
              </a:rPr>
              <a:t>Achievemen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pperplate Gothic Bold"/>
              </a:rPr>
              <a:t>Known as the Father of Experiential Education Mov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pperplate Gothic Bold"/>
              </a:rPr>
              <a:t>Lectured all over the world and prepared educational surveys for Turkey, Mexico and the Soviet Un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pperplate Gothic Bold"/>
              </a:rPr>
              <a:t>Rejected authoritarian teaching metho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pperplate Gothic Bold"/>
              </a:rPr>
              <a:t>Major Books includ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pperplate Gothic Bold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opperplate Gothic Bold"/>
              </a:rPr>
              <a:t>Democracy and Educatio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pperplate Gothic Bold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opperplate Gothic Bold"/>
              </a:rPr>
              <a:t>Logic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pperplate Gothic Bold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opperplate Gothic Bold"/>
              </a:rPr>
              <a:t>Experience and Educatio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23:00:29Z</dcterms:created>
  <dc:creator>Kend</dc:creator>
  <dc:description/>
  <dc:language>en-US</dc:language>
  <cp:lastModifiedBy>Kend</cp:lastModifiedBy>
  <dcterms:modified xsi:type="dcterms:W3CDTF">2010-02-03T02:25:07Z</dcterms:modified>
  <cp:revision>8</cp:revision>
  <dc:subject/>
  <dc:title>Slide 1</dc:title>
</cp:coreProperties>
</file>