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F60-B9E6-4C13-B343-15F36C33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6CB-8D32-4952-8E0C-6B466FCB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86F-BEB1-4719-B4E2-517DD774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93D-D3AC-4593-9088-47E73BF3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72C0-AB9C-4ECB-B320-5FEC96FE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7FFC-BD15-4B8C-8617-55074A1D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1818-A523-48C3-A733-688F4C70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7B69-728D-4FF2-A046-464DABE5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2B7D-3229-4AF4-8E1D-916FED16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B8E6-4E06-473E-8BD8-1D0E534E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A483-6A13-4341-92F0-492DF6A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E8A-A6E6-4CBE-8DE6-BD58AA38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2CF-917B-43E2-9A4E-3B86654D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2A85-2F63-4105-8694-8C7567CC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4078-C9E5-4A13-9466-59943A0D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75E8-B920-4F53-9275-8DFDC79F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76EC-3D2F-4122-9EDB-F0F547AA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842-5BED-4640-AD45-372221E1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0B0-6BAE-4B6D-8C3B-C891D386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EC9-DF97-4FEC-91B6-41506D09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D73-2369-4354-A0C3-56729587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9B5-9FE4-4A41-A56C-BFBFCD80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7B4-9AC0-4321-8BF2-57217F57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D77-FAC4-43A0-9A5D-2759D4C0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A0E8-C303-478C-AFBE-099E53C4D85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52E9-3FD4-4758-A152-B7C4B59D1A7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swers.com/topic/john-dewey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John Dew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47242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ED 530 Theorist 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pring Semest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rystale G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Re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Neill, James; John Dewey: Philosophy of Education, viewed Jan. 2 2010, updated Jan 26, 2005  www.wilderdom.com/experiential/JohnDeweyPhilosophyEduc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Asiado, Tel; John Dewey: Pragmatism, viewed Jan. 2 2010, Nov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, 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greatphilosophers.suite101.com/article.cfm/john_dewey_pragmat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Olsen, Shawn; John Dewey, viewed Jan 2, 2010, updated August 25, 2005 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johndewey.shawnolso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Instrumentalism; viewed Jan 2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http://www.answers.com/topic/instrument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The Philosophy of John Dewey; viewed Jan 2, 2010, updated 2002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radicalacademy.com/phildewe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Background</a:t>
            </a: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orn October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859 in Burlington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16 he went to University of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fter graduation he was a high school teacher for three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23 he started his graduate work at John Hopkins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ied in New York City on Jun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9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wey’s philosophy of Education stressed these influen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velopment of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Understanding of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Learning throug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s the philosophical teaching of Dewey in its theoretical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ffirms that cognition consists in forging ideal tools or instruments with which to cope with a give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wey believes that the mind is an instrument for realizing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teleological weapons of mi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plastic and ada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elieves that truth is an instrument used by human beings to solve their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Experimental approaches in the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Students will learn from experience, using those tools to achieve future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Theory was structured around the scientific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strumentalism related to Pragmat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relates closely to pragmatism, especially in the work of John</a:t>
            </a:r>
            <a:r>
              <a:rPr b="0" lang="en-US" sz="2200" spc="-1" strike="noStrike" u="sng">
                <a:solidFill>
                  <a:srgbClr val="006666"/>
                </a:solidFill>
                <a:uFillTx/>
                <a:latin typeface="Copperplate Gothic Bold"/>
                <a:hlinkClick r:id="rId1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wey and his student Addison Webster Moo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is more of a pragmatic approach to science, information and theories than an ontological stat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Often instrumentalists (like pragmatists) have been accused of being relativists, even though many instrumentalists are also believers in sturdy objective realism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fluences Toward Pragmatism For Dew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2286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iological Doctrines of T.H. Huxley and the philosophy of Hegel (these significant influences installed ideas in which he proved a fixed resolve that these dualisms should be oppos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Matter and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neces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Fact an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Pragmat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finition – a philosophical view of human knowledge and thought as being biological in nature; in modern psychological terms; it is equivalent to the gestalt or paradigm theory of knowledge - - - it could imply that there is no objectivity to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Achiev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Known as the Father of Experiential Education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Lectured all over the world and prepared educational surveys for Turkey, Mexico and the Soviet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jected authoritarian teaching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Major Book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Democracy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Log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3:00:29Z</dcterms:created>
  <dc:creator>Kend</dc:creator>
  <dc:description/>
  <dc:language>en-US</dc:language>
  <cp:lastModifiedBy>Kend</cp:lastModifiedBy>
  <dcterms:modified xsi:type="dcterms:W3CDTF">2010-02-03T02:25:07Z</dcterms:modified>
  <cp:revision>8</cp:revision>
  <dc:subject/>
  <dc:title>Slide 1</dc:title>
</cp:coreProperties>
</file>