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A46-1315-416E-A9B6-F2AAAF5A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7F8-17C1-4E89-86BE-711E15E4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162-5A29-4192-B7AB-F4166C64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8C4-5A94-4270-B38B-D8CA0BAD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D749-1B5B-4DD4-8B66-6043EE7B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FFAA-8B95-4C4F-9E2F-60DCA3D5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D37F-544A-4815-A07E-E621A99D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03C-72ED-4F28-A04F-F9638D42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7B25-58FE-4A00-BEB0-02EA90A3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82CF-A1F2-422E-935A-8713FF32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F715-952B-47E5-A707-A9A82603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90D-FF96-4BA6-A74F-3B4FC1CA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23F2-2C80-4B6A-8E96-8376D0A8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38B0-A294-4E87-982A-8C833A5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ADE0-97FA-4FD9-8633-968C47EF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95C4-2FC6-4CFF-A4A0-FB854A2A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A745-B13F-4C40-BC8C-72F39AF1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3E5-1884-4CF0-A4DC-02F35AA7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C92-D412-436A-A538-F7BEDCDA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553-E0C5-428D-A935-30A3FC94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798-9B2C-4A15-B66C-0330A83D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A6B-581F-4311-9807-6DB03DC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34E-22DB-47F6-BE5E-DAEFC71A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325-5AA4-42AA-876C-6C15DA3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1231-A1E7-4548-B1C7-25A2001F032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B26D-C5BC-48DF-9B74-785E70AC4B9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swers.com/topic/john-dewey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John Dew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47242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ED 530 Theorist 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pring Semest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rystale G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Re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Neill, James; John Dewey: Philosophy of Education, viewed Jan. 2 2010, updated Jan 26, 2005  www.wilderdom.com/experiential/JohnDeweyPhilosophyEduc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Asiado, Tel; John Dewey: Pragmatism, viewed Jan. 2 2010, Nov 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, 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greatphilosophers.suite101.com/article.cfm/john_dewey_pragmat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Olsen, Shawn; John Dewey, viewed Jan 2, 2010, updated August 25, 2005 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johndewey.shawnolso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Instrumentalism; viewed Jan 2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http://www.answers.com/topic/instrument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The Philosophy of John Dewey; viewed Jan 2, 2010, updated 2002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radicalacademy.com/phildewe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Background</a:t>
            </a: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orn October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859 in Burlington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16 he went to University of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fter graduation he was a high school teacher for three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23 he started his graduate work at John Hopkins Univer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ied in New York City on Jun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9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wey’s philosophy of Education stressed these influen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velopment of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Understanding of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Learning throug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s the philosophical teaching of Dewey in its theoretical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ffirms that cognition consists in forging ideal tools or instruments with which to cope with a given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wey believes that the mind is an instrument for realizing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teleological weapons of mi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plastic and ada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elieves that truth is an instrument used by human beings to solve their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Experimental approaches in the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Students will learn from experience, using those tools to achieve future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Theory was structured around the scientific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strumentalism related to Pragmat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relates closely to pragmatism, especially in the work of John</a:t>
            </a:r>
            <a:r>
              <a:rPr b="0" lang="en-US" sz="2200" spc="-1" strike="noStrike" u="sng">
                <a:solidFill>
                  <a:srgbClr val="006666"/>
                </a:solidFill>
                <a:uFillTx/>
                <a:latin typeface="Copperplate Gothic Bold"/>
                <a:hlinkClick r:id="rId1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wey and his student Addison Webster Moo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is more of a pragmatic approach to science, information and theories than an ontological stat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Often instrumentalists (like pragmatists) have been accused of being relativists, even though many instrumentalists are also believers in sturdy objective realism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fluences Toward Pragmatism For Dew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2286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iological Doctrines of T.H. Huxley and the philosophy of Hegel (these significant influences installed ideas in which he proved a fixed resolve that these dualisms should be oppos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Matter and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neces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Fact an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Pragmat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finition – a philosophical view of human knowledge and thought as being biological in nature; in modern psychological terms; it is equivalent to the gestalt or paradigm theory of knowledge - - - it could imply that there is no objectivity to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Achiev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Known as the Father of Experiential Education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Lectured all over the world and prepared educational surveys for Turkey, Mexico and the Soviet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Rejected authoritarian teaching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Major Book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Democracy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Log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3:00:29Z</dcterms:created>
  <dc:creator>Kend</dc:creator>
  <dc:description/>
  <dc:language>en-US</dc:language>
  <cp:lastModifiedBy>Kend</cp:lastModifiedBy>
  <dcterms:modified xsi:type="dcterms:W3CDTF">2010-02-03T02:25:07Z</dcterms:modified>
  <cp:revision>8</cp:revision>
  <dc:subject/>
  <dc:title>Slide 1</dc:title>
</cp:coreProperties>
</file>