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C9AE9-FDC6-4902-8ADA-CEF87E37A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8A372-900E-4511-9D3D-22C5030AE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319C8-DBEB-42E8-B09B-9926359AE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E70EE-4839-4023-8877-B2FA9A1B4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882C8-B8C6-4A8E-8680-9F41E6917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3CACF-B48B-407D-B5E7-A07FD59A9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7A63C-1175-4B67-9BE0-4ED4E5693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D8E08-5CB9-44A8-AE85-5B6958B43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F184A-4F23-489D-8DD6-E888EE99C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636E4-564F-4A8E-A140-92195FD0D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00D8C-B695-4F2C-B070-6669B9E47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6AF89-0E82-4AF4-AF05-947578D70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AC1EF-9D00-49C3-9961-1F599685C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3E1F2-D37C-40F5-B148-8F075859A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FB523-0413-46BC-B017-D75DC470D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55F6E-AE65-485E-9E57-C2289C859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A6902-8D71-48C4-879D-5245F2491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D94D35-B7E4-4D5C-8CF1-27D410F2B3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EB401-F704-4858-B0AC-9E05B0A3A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DA14B-0FC3-48AB-A725-9D802A594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262255-9657-4D88-8C4F-5861C3D78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FED116-041F-440B-87F2-FAB6A0415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0ABCC-630D-43B5-9981-12526F9A5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D4341-8DA3-4DB6-A62D-74E82FA607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7A12A-5864-44DD-B944-DC6A17FEA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CF8AE-8F2B-4BE7-9AC0-3F3CC3EFF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7133A-EE3E-4DB7-9EE6-A911F3E2A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27019-73CB-48F6-AF07-D1AB510FE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C0A960-DB2D-4154-883C-9BE65EC360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18EAF8-744E-4580-9F2A-7F8E7DB9A0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49D647-7BB8-4B73-8DB1-B36BCD9DE4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76D0A-539A-40ED-A877-6917BBA89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4A269-B5CC-44BA-A959-3F4475ED8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5938D-1136-43A0-B8E4-78AB84D83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7922DB-F75B-46F8-B57F-A18944C2D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8C632-CF77-4734-ADFB-FEBF9D0CE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985E4-80C4-45E3-A492-36491E45B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8571B-15F1-46FF-AD74-2216FEB97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FABC0-839A-48BC-8234-E2F8B709A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DF4CA-D5BD-4590-838E-D4BE08193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33432-7E77-43B7-A8CB-11D57A7D05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21A576-A8CC-4F9B-A06C-C7489A5050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E7F343-42C8-4AA0-9FC2-D8EA66C015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D20765-F868-43ED-823A-0DD8C233B9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82608-B01E-408D-94BD-BFDCF4F3A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31F3FF-618D-4B81-86F2-6768FCB23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B39AA4-FB0F-4005-9FDB-CAE7154AF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B73AC-D272-4293-A374-35A3BD34C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078655-4EA6-4B63-BF0A-7132DC265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B71233-D371-4FFD-A74A-AD6A9AAD5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14403-48CB-40AC-BE5B-D49A42B3E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A01B3-8633-4692-A4E3-54205E7D79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5DD1A5-98CD-4862-B8A3-09221B9D5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06B462-AF75-4122-9AFA-F3E1E4770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CE7399-A029-4B25-BBF9-F3604DD9C5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6B68-016A-41F4-BD3D-AD0850D6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35B75E-E060-4332-8232-4A1F78F2A7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48EC60-353C-4CC0-A08A-729D83C7D8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0B7436-51F6-4DE3-A5D5-EFF2277753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E5F12-6EC7-4716-851C-D2BC84B194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78067-D214-4021-B65C-FDA7920A05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A377A-DCAC-4CDD-A5B6-E5E926A071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2595DA-6C75-46F2-A035-081982F81B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26039-A319-4A0B-8B54-FDF45DFD29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346FD-3C7B-49AA-A3EF-02146553C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0E6B4-DE85-4E54-9159-D3F4104D5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6F0B-2ADC-484E-A2D8-C915422DD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A48C9-CC11-4A0E-A8D0-FFE47EBB59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30F669-4B1B-4B52-A5FA-981D1A232B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F1B1BB-D28B-47F6-9E2C-7E28054706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56AB82-77D9-46DE-847D-DF5AC83717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911EE0-C1FE-4907-87F9-B61A29460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DBC237-EF2B-4748-AA8C-504D248AC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5AE793-B4A8-48EB-B67F-BB36AE39A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90360F-BA96-4B79-91A3-21998B216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757064-8273-4CD1-947E-4CC6C38A7A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A1B87-3DE1-4C62-9F84-D0FEDA217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B3A5-B166-48FB-8AB9-C63ADE3C1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95C74-FB20-4A74-9758-C3FA59D70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11C73-C6E8-44BE-A258-41F347DE5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296161-D650-4EB4-BD03-E6A70D6B34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C22F93-07F9-4C64-A679-F8FA406BF6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3D6CB0-EA98-4102-A696-9713C117B1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B57B-9CF9-4B24-8CD5-B4461A0DF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B824-B2F8-4249-BAB2-B02B3D7C8E9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5C2C-E0D9-4A66-B21E-1D02B3510206}"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E941-E91F-4244-AB81-3D3BF3559A8A}"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AEE1-31EC-4035-B071-FD8CACD71D7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5A31-9908-499F-A1AE-2289D6ABD07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88F0-2964-4182-B695-767669C891D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E8E3-900D-4ADE-93DC-3E1B929C98D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ffectperformance.com/sites/prestera/graphics/M4/gagne.gif"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4937040" y="530280"/>
            <a:ext cx="4213440" cy="4505400"/>
          </a:xfrm>
          <a:prstGeom prst="rect">
            <a:avLst/>
          </a:prstGeom>
          <a:ln w="0">
            <a:noFill/>
          </a:ln>
        </p:spPr>
      </p:pic>
      <p:sp>
        <p:nvSpPr>
          <p:cNvPr id="304" name="Title 1"/>
          <p:cNvSpPr/>
          <p:nvPr/>
        </p:nvSpPr>
        <p:spPr>
          <a:xfrm>
            <a:off x="-228600" y="304920"/>
            <a:ext cx="655308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Corbel"/>
              </a:rPr>
              <a:t>Robert Gagne </a:t>
            </a:r>
            <a:endParaRPr b="0" lang="en-US" sz="7400" spc="-1" strike="noStrike">
              <a:solidFill>
                <a:srgbClr val="000000"/>
              </a:solidFill>
              <a:latin typeface="Arial"/>
            </a:endParaRPr>
          </a:p>
        </p:txBody>
      </p:sp>
      <p:sp>
        <p:nvSpPr>
          <p:cNvPr id="305" name="Subtitle 2"/>
          <p:cNvSpPr/>
          <p:nvPr/>
        </p:nvSpPr>
        <p:spPr>
          <a:xfrm>
            <a:off x="0" y="2590920"/>
            <a:ext cx="5334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D 530 Theorist Present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ring Semester 201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athan Byl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189000" y="146160"/>
            <a:ext cx="8504280" cy="1261800"/>
          </a:xfrm>
          <a:prstGeom prst="rect">
            <a:avLst/>
          </a:prstGeom>
          <a:ln w="0">
            <a:noFill/>
          </a:ln>
        </p:spPr>
      </p:pic>
      <p:sp>
        <p:nvSpPr>
          <p:cNvPr id="325"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ly practic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should be able to demonstrat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ore the skill is practiced, the more the likely hood of the skill being learned</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tal process is that it “responds to questions to enhance encoding and verific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189000" y="146160"/>
            <a:ext cx="8504280" cy="1261800"/>
          </a:xfrm>
          <a:prstGeom prst="rect">
            <a:avLst/>
          </a:prstGeom>
          <a:ln w="0">
            <a:noFill/>
          </a:ln>
        </p:spPr>
      </p:pic>
      <p:sp>
        <p:nvSpPr>
          <p:cNvPr id="327"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t the student know how they are doing</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content or practice, if necessary</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 assessm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inforcement and assessment of correct performance”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189000" y="146160"/>
            <a:ext cx="8504280" cy="1261800"/>
          </a:xfrm>
          <a:prstGeom prst="rect">
            <a:avLst/>
          </a:prstGeom>
          <a:ln w="0">
            <a:noFill/>
          </a:ln>
        </p:spPr>
      </p:pic>
      <p:sp>
        <p:nvSpPr>
          <p:cNvPr id="329" name="PlaceHolder 1"/>
          <p:cNvSpPr>
            <a:spLocks noGrp="1"/>
          </p:cNvSpPr>
          <p:nvPr>
            <p:ph/>
          </p:nvPr>
        </p:nvSpPr>
        <p:spPr>
          <a:xfrm>
            <a:off x="457200" y="1774800"/>
            <a:ext cx="8229600" cy="4626000"/>
          </a:xfrm>
          <a:prstGeom prst="rect">
            <a:avLst/>
          </a:prstGeom>
          <a:noFill/>
          <a:ln w="0">
            <a:noFill/>
          </a:ln>
        </p:spPr>
        <p:txBody>
          <a:bodyPr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 evaluation of the student’s learn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Mastery Teach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ividual assessment</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reinforcement of content as final eval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189000" y="-96840"/>
            <a:ext cx="8680320" cy="1571760"/>
          </a:xfrm>
          <a:prstGeom prst="rect">
            <a:avLst/>
          </a:prstGeom>
          <a:ln w="0">
            <a:noFill/>
          </a:ln>
        </p:spPr>
      </p:pic>
      <p:sp>
        <p:nvSpPr>
          <p:cNvPr id="331"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ly perform using the knowledge learned</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nsfer of knowledge to a new applicati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knowledge in a “real world” setting</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generalization of learned skill to new sit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46160"/>
            <a:ext cx="8504280" cy="1261800"/>
          </a:xfrm>
          <a:prstGeom prst="rect">
            <a:avLst/>
          </a:prstGeom>
          <a:ln w="0">
            <a:noFill/>
          </a:ln>
        </p:spPr>
      </p:pic>
      <p:sp>
        <p:nvSpPr>
          <p:cNvPr id="333" name="TextBox 4"/>
          <p:cNvSpPr/>
          <p:nvPr/>
        </p:nvSpPr>
        <p:spPr>
          <a:xfrm>
            <a:off x="1905120" y="6095880"/>
            <a:ext cx="693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age from: http://www.nwlink.com/~donclark/hrd/learning/gagne.gif</a:t>
            </a:r>
            <a:endParaRPr b="0" lang="en-US" sz="1800" spc="-1" strike="noStrike">
              <a:solidFill>
                <a:srgbClr val="000000"/>
              </a:solidFill>
              <a:latin typeface="Arial"/>
            </a:endParaRPr>
          </a:p>
        </p:txBody>
      </p:sp>
      <p:pic>
        <p:nvPicPr>
          <p:cNvPr id="334" name="Picture 6" descr="gagne"/>
          <p:cNvPicPr/>
          <p:nvPr/>
        </p:nvPicPr>
        <p:blipFill>
          <a:blip r:embed="rId2"/>
          <a:stretch/>
        </p:blipFill>
        <p:spPr>
          <a:xfrm>
            <a:off x="0" y="1981080"/>
            <a:ext cx="9144000" cy="358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9000" y="146160"/>
            <a:ext cx="8504280" cy="1261800"/>
          </a:xfrm>
          <a:prstGeom prst="rect">
            <a:avLst/>
          </a:prstGeom>
          <a:ln w="0">
            <a:noFill/>
          </a:ln>
        </p:spPr>
      </p:pic>
      <p:sp>
        <p:nvSpPr>
          <p:cNvPr id="336" name=""/>
          <p:cNvSpPr txBox="1"/>
          <p:nvPr/>
        </p:nvSpPr>
        <p:spPr>
          <a:xfrm>
            <a:off x="0" y="1523520"/>
            <a:ext cx="9144000" cy="495324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sychological Principles in Systems Development</a:t>
            </a:r>
            <a:r>
              <a:rPr b="0" lang="en-US" sz="3200" spc="-1" strike="noStrike">
                <a:solidFill>
                  <a:srgbClr val="000000"/>
                </a:solidFill>
                <a:latin typeface="Corbel"/>
              </a:rPr>
              <a:t> (196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The Conditions of Learning (1965)</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Essentials of Learning for Instruction (197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rinciples of Instructional Design</a:t>
            </a:r>
            <a:r>
              <a:rPr b="0" lang="en-US" sz="3200" spc="-1" strike="noStrike">
                <a:solidFill>
                  <a:srgbClr val="000000"/>
                </a:solidFill>
                <a:latin typeface="Corbel"/>
              </a:rPr>
              <a:t> (1979) – Written with L.J. Brig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360" y="1447920"/>
            <a:ext cx="8915400" cy="5333760"/>
          </a:xfrm>
          <a:prstGeom prst="rect">
            <a:avLst/>
          </a:prstGeom>
          <a:noFill/>
          <a:ln w="0">
            <a:noFill/>
          </a:ln>
        </p:spPr>
        <p:txBody>
          <a:bodyPr anchor="t">
            <a:normAutofit fontScale="90000"/>
          </a:bodyPr>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a:r>
            <a:r>
              <a:rPr b="0" lang="en-US" sz="3200" spc="-1" strike="noStrike">
                <a:solidFill>
                  <a:srgbClr val="000000"/>
                </a:solidFill>
                <a:latin typeface="Corbel"/>
              </a:rPr>
              <a:t>Behind Gagne's formidable professional accomplishments was not only a keen probing intellect but also a warm, sympathetic human being. His sure views of scientific problems were always open to other opinions and other ideas. He treated conflicting opinions with respect and generosity. Gagne demonstrated that precise scientific research can succeed in solving human problems even in very complex areas such as education and he blazed a trail for others who were inspired by his example.”</a:t>
            </a:r>
            <a:r>
              <a:rPr b="0" lang="en-US" sz="3200" spc="-1" strike="noStrike">
                <a:solidFill>
                  <a:srgbClr val="000000"/>
                </a:solidFill>
                <a:latin typeface="Corbel"/>
              </a:rPr>
              <a:t> (</a:t>
            </a:r>
            <a:r>
              <a:rPr b="0" lang="en-US" sz="3200" spc="-1" strike="noStrike">
                <a:solidFill>
                  <a:srgbClr val="000000"/>
                </a:solidFill>
                <a:latin typeface="Corbel"/>
              </a:rPr>
              <a:t>Rothkopf</a:t>
            </a:r>
            <a:r>
              <a:rPr b="0" lang="en-US" sz="3200" spc="-1" strike="noStrike">
                <a:solidFill>
                  <a:srgbClr val="000000"/>
                </a:solidFill>
                <a:latin typeface="Corbel"/>
              </a:rPr>
              <a:t>, 2002)</a:t>
            </a:r>
            <a:endParaRPr b="0" lang="en-US" sz="3200" spc="-1" strike="noStrike">
              <a:solidFill>
                <a:srgbClr val="000000"/>
              </a:solidFill>
              <a:latin typeface="Corbel"/>
            </a:endParaRPr>
          </a:p>
        </p:txBody>
      </p:sp>
      <p:sp>
        <p:nvSpPr>
          <p:cNvPr id="338" name="Rectangle 2"/>
          <p:cNvSpPr/>
          <p:nvPr/>
        </p:nvSpPr>
        <p:spPr>
          <a:xfrm>
            <a:off x="457200" y="152280"/>
            <a:ext cx="8229600" cy="125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A Deeper Look</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46160"/>
            <a:ext cx="8504280" cy="1261800"/>
          </a:xfrm>
          <a:prstGeom prst="rect">
            <a:avLst/>
          </a:prstGeom>
          <a:ln w="0">
            <a:noFill/>
          </a:ln>
        </p:spPr>
      </p:pic>
      <p:sp>
        <p:nvSpPr>
          <p:cNvPr id="340" name=""/>
          <p:cNvSpPr txBox="1"/>
          <p:nvPr/>
        </p:nvSpPr>
        <p:spPr>
          <a:xfrm>
            <a:off x="0" y="1523520"/>
            <a:ext cx="9144000" cy="5334120"/>
          </a:xfrm>
          <a:prstGeom prst="rect">
            <a:avLst/>
          </a:prstGeom>
          <a:noFill/>
          <a:ln w="0">
            <a:noFill/>
          </a:ln>
        </p:spPr>
        <p:txBody>
          <a:bodyPr anchor="t">
            <a:normAutofit fontScale="97000"/>
          </a:bodyPr>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illpatrick, L. (2001). Gagne's Nine Events of Instruction. In  B. Hoffman (Ed.), </a:t>
            </a:r>
            <a:r>
              <a:rPr b="0" i="1" lang="en-US" sz="3200" spc="-1" strike="noStrike">
                <a:solidFill>
                  <a:srgbClr val="000000"/>
                </a:solidFill>
                <a:latin typeface="Corbel"/>
              </a:rPr>
              <a:t>Encyclopedia of Educational Technology.</a:t>
            </a:r>
            <a:r>
              <a:rPr b="0" lang="en-US" sz="3200" spc="-1" strike="noStrike">
                <a:solidFill>
                  <a:srgbClr val="000000"/>
                </a:solidFill>
                <a:latin typeface="Corbel"/>
              </a:rPr>
              <a:t> Retrieved February 2, 2010, from http://coe.sdsu.edu/eet/Articles/gagnesevents/start.htm.</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ruse, Kevin. Gagne's Nine Events of Instruction: An Introduction. Retrieved February 2, 2010 from http://www.e-learningguru.com/articles/art3_3.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46160"/>
            <a:ext cx="8504280" cy="1261800"/>
          </a:xfrm>
          <a:prstGeom prst="rect">
            <a:avLst/>
          </a:prstGeom>
          <a:ln w="0">
            <a:noFill/>
          </a:ln>
        </p:spPr>
      </p:pic>
      <p:sp>
        <p:nvSpPr>
          <p:cNvPr id="342" name=""/>
          <p:cNvSpPr txBox="1"/>
          <p:nvPr/>
        </p:nvSpPr>
        <p:spPr>
          <a:xfrm>
            <a:off x="0" y="1523520"/>
            <a:ext cx="9144000" cy="5334120"/>
          </a:xfrm>
          <a:prstGeom prst="rect">
            <a:avLst/>
          </a:prstGeom>
          <a:noFill/>
          <a:ln w="0">
            <a:noFill/>
          </a:ln>
        </p:spPr>
        <p:txBody>
          <a:bodyPr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bert Mills Gagne. Retrieved February 2, 2010, from http://www.answers.com/topic/robert-mills-gagn.</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thkopf, Ernst Z. (2002). </a:t>
            </a:r>
            <a:r>
              <a:rPr b="0" lang="en-US" sz="3200" spc="-1" strike="noStrike">
                <a:solidFill>
                  <a:srgbClr val="000000"/>
                </a:solidFill>
                <a:latin typeface="Corbel"/>
              </a:rPr>
              <a:t>A Bridge Builder Between Laboratory, Practice. Retrieved February 2, 2010 from </a:t>
            </a:r>
            <a:r>
              <a:rPr b="0" lang="en-US" sz="3200" spc="-1" strike="noStrike">
                <a:solidFill>
                  <a:srgbClr val="000000"/>
                </a:solidFill>
                <a:latin typeface="Corbel"/>
              </a:rPr>
              <a:t>http://www.psychologicalscience.org/observer/getArticle.cfm?id=117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46160"/>
            <a:ext cx="8504280" cy="1261800"/>
          </a:xfrm>
          <a:prstGeom prst="rect">
            <a:avLst/>
          </a:prstGeom>
          <a:ln w="0">
            <a:noFill/>
          </a:ln>
        </p:spPr>
      </p:pic>
      <p:sp>
        <p:nvSpPr>
          <p:cNvPr id="307" name=""/>
          <p:cNvSpPr txBox="1"/>
          <p:nvPr/>
        </p:nvSpPr>
        <p:spPr>
          <a:xfrm>
            <a:off x="0" y="1981080"/>
            <a:ext cx="8153280" cy="4572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n August 21, 1916 in North Andover, MA</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 from Yale University in 1937</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h.D. in Psychology from Brown University in 1940</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Connecticut College for Women from 1940-1949</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ennsylvania State University from 1945-1946</a:t>
            </a: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Image Source:</a:t>
            </a:r>
            <a:r>
              <a:rPr b="0" lang="en-US" sz="2400" spc="-1" strike="noStrike">
                <a:solidFill>
                  <a:srgbClr val="000000"/>
                </a:solidFill>
                <a:latin typeface="Corbel"/>
              </a:rPr>
              <a:t> </a:t>
            </a: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68bba"/>
                </a:solidFill>
                <a:uFillTx/>
                <a:latin typeface="Corbel"/>
                <a:hlinkClick r:id="rId2"/>
              </a:rPr>
              <a:t>http://www.effectperformance.com/sites/prestera/graphics/M4/gagne.gif</a:t>
            </a:r>
            <a:endParaRPr b="0" lang="en-US" sz="2000" spc="-1" strike="noStrike">
              <a:solidFill>
                <a:srgbClr val="000000"/>
              </a:solidFill>
              <a:latin typeface="Corbel"/>
            </a:endParaRPr>
          </a:p>
        </p:txBody>
      </p:sp>
      <p:pic>
        <p:nvPicPr>
          <p:cNvPr id="308" name="Picture 5" descr=""/>
          <p:cNvPicPr/>
          <p:nvPr/>
        </p:nvPicPr>
        <p:blipFill>
          <a:blip r:embed="rId3"/>
          <a:stretch/>
        </p:blipFill>
        <p:spPr>
          <a:xfrm>
            <a:off x="7742160" y="228600"/>
            <a:ext cx="140184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sp>
        <p:nvSpPr>
          <p:cNvPr id="310" name=""/>
          <p:cNvSpPr txBox="1"/>
          <p:nvPr/>
        </p:nvSpPr>
        <p:spPr>
          <a:xfrm>
            <a:off x="0" y="1523520"/>
            <a:ext cx="9144000" cy="5334120"/>
          </a:xfrm>
          <a:prstGeom prst="rect">
            <a:avLst/>
          </a:prstGeom>
          <a:noFill/>
          <a:ln w="0">
            <a:noFill/>
          </a:ln>
        </p:spPr>
        <p:txBody>
          <a:bodyPr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ir Force Research Director from 1949-1958</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rinceton University from 1958-1962</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merican Institute of Research in Pittsburgh Director of research from 1962-1965</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University of California at Berkeley from 1966-1969</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Florida State University from 1969-19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ed April 28, 2002 in Signal Mountain, TN </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the age of 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46160"/>
            <a:ext cx="8504280" cy="1261800"/>
          </a:xfrm>
          <a:prstGeom prst="rect">
            <a:avLst/>
          </a:prstGeom>
          <a:ln w="0">
            <a:noFill/>
          </a:ln>
        </p:spPr>
      </p:pic>
      <p:sp>
        <p:nvSpPr>
          <p:cNvPr id="312" name="PlaceHolder 1"/>
          <p:cNvSpPr>
            <a:spLocks noGrp="1"/>
          </p:cNvSpPr>
          <p:nvPr>
            <p:ph/>
          </p:nvPr>
        </p:nvSpPr>
        <p:spPr>
          <a:xfrm>
            <a:off x="457200" y="1774800"/>
            <a:ext cx="8305920" cy="462600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ublished </a:t>
            </a:r>
            <a:r>
              <a:rPr b="0" i="1" lang="en-US" sz="2800" spc="-1" strike="noStrike">
                <a:solidFill>
                  <a:srgbClr val="000000"/>
                </a:solidFill>
                <a:latin typeface="Corbel"/>
              </a:rPr>
              <a:t>Conditions of Learning</a:t>
            </a:r>
            <a:r>
              <a:rPr b="0" lang="en-US" sz="2800" spc="-1" strike="noStrike">
                <a:solidFill>
                  <a:srgbClr val="000000"/>
                </a:solidFill>
                <a:latin typeface="Corbel"/>
              </a:rPr>
              <a:t> in 1965</a:t>
            </a:r>
            <a:endParaRPr b="0" lang="en-US" sz="28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ed mental conditions for learning</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tablished 9 components that every lesson should contain </a:t>
            </a:r>
            <a:endParaRPr b="0" lang="en-US" sz="24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Gain Attention</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form Learners of Objectives</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imulate Recall of Prior Learning</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esent the Content</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Learning Guidance"</a:t>
            </a:r>
            <a:endParaRPr b="0" lang="en-US" sz="2000" spc="-1" strike="noStrike">
              <a:solidFill>
                <a:srgbClr val="000000"/>
              </a:solidFill>
              <a:latin typeface="Corbel"/>
            </a:endParaRPr>
          </a:p>
        </p:txBody>
      </p:sp>
      <p:sp>
        <p:nvSpPr>
          <p:cNvPr id="313" name="PlaceHolder 2"/>
          <p:cNvSpPr>
            <a:spLocks noGrp="1"/>
          </p:cNvSpPr>
          <p:nvPr>
            <p:ph/>
          </p:nvPr>
        </p:nvSpPr>
        <p:spPr>
          <a:xfrm>
            <a:off x="4648320" y="3450960"/>
            <a:ext cx="4495680" cy="2415960"/>
          </a:xfrm>
          <a:prstGeom prst="rect">
            <a:avLst/>
          </a:prstGeom>
          <a:noFill/>
          <a:ln w="0">
            <a:noFill/>
          </a:ln>
        </p:spPr>
        <p:txBody>
          <a:bodyPr lIns="54720" tIns="91440" anchor="t">
            <a:normAutofit/>
          </a:bodyPr>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licit Performance (practi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Feedback</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ess Performan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nhance Retention and Transfer to the Job </a:t>
            </a:r>
            <a:endParaRPr b="0" lang="en-US" sz="20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Rectangle 2" descr=""/>
          <p:cNvPicPr/>
          <p:nvPr/>
        </p:nvPicPr>
        <p:blipFill>
          <a:blip r:embed="rId1"/>
          <a:stretch/>
        </p:blipFill>
        <p:spPr>
          <a:xfrm>
            <a:off x="189000" y="146160"/>
            <a:ext cx="8504280" cy="1261800"/>
          </a:xfrm>
          <a:prstGeom prst="rect">
            <a:avLst/>
          </a:prstGeom>
          <a:ln w="0">
            <a:noFill/>
          </a:ln>
        </p:spPr>
      </p:pic>
      <p:sp>
        <p:nvSpPr>
          <p:cNvPr id="315" name="PlaceHolder 1"/>
          <p:cNvSpPr>
            <a:spLocks noGrp="1"/>
          </p:cNvSpPr>
          <p:nvPr>
            <p:ph/>
          </p:nvPr>
        </p:nvSpPr>
        <p:spPr>
          <a:xfrm>
            <a:off x="457200" y="1774800"/>
            <a:ext cx="8229600" cy="4626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et the students’ attention</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ive the students information that is interesting or intriguing about the topic about to be taught</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an anticipatory set or hook activity</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a:t>
            </a:r>
            <a:r>
              <a:rPr b="0" lang="en-US" sz="3200" spc="-1" strike="noStrike">
                <a:solidFill>
                  <a:srgbClr val="000000"/>
                </a:solidFill>
                <a:latin typeface="Corbel"/>
              </a:rPr>
              <a:t>stimuli activates receptors”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189000" y="146160"/>
            <a:ext cx="8504280" cy="1261800"/>
          </a:xfrm>
          <a:prstGeom prst="rect">
            <a:avLst/>
          </a:prstGeom>
          <a:ln w="0">
            <a:noFill/>
          </a:ln>
        </p:spPr>
      </p:pic>
      <p:sp>
        <p:nvSpPr>
          <p:cNvPr id="317"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ll the students what they are learning in the less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Learning Focus Objectives</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phrase the objective in a language that is understood by the student</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it “</a:t>
            </a:r>
            <a:r>
              <a:rPr b="0" lang="en-US" sz="3200" spc="-1" strike="noStrike">
                <a:solidFill>
                  <a:srgbClr val="000000"/>
                </a:solidFill>
                <a:latin typeface="Corbel"/>
              </a:rPr>
              <a:t>creates level of expectation for learning</a:t>
            </a:r>
            <a:r>
              <a:rPr b="0" lang="en-US" sz="3200" spc="-1" strike="noStrike">
                <a:solidFill>
                  <a:srgbClr val="000000"/>
                </a:solidFill>
                <a:latin typeface="Corbel"/>
              </a:rPr>
              <a: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89000" y="-96840"/>
            <a:ext cx="8504280" cy="1571760"/>
          </a:xfrm>
          <a:prstGeom prst="rect">
            <a:avLst/>
          </a:prstGeom>
          <a:ln w="0">
            <a:noFill/>
          </a:ln>
        </p:spPr>
      </p:pic>
      <p:sp>
        <p:nvSpPr>
          <p:cNvPr id="319" name="PlaceHolder 1"/>
          <p:cNvSpPr>
            <a:spLocks noGrp="1"/>
          </p:cNvSpPr>
          <p:nvPr>
            <p:ph/>
          </p:nvPr>
        </p:nvSpPr>
        <p:spPr>
          <a:xfrm>
            <a:off x="457200" y="1774800"/>
            <a:ext cx="8229600" cy="4626000"/>
          </a:xfrm>
          <a:prstGeom prst="rect">
            <a:avLst/>
          </a:prstGeom>
          <a:noFill/>
          <a:ln w="0">
            <a:noFill/>
          </a:ln>
        </p:spPr>
        <p:txBody>
          <a:bodyPr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ve students recall something they have previously learned that is related to the topic being taught</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vious knowledge can be from formal learning or something the student personally experienced</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milar to activating prior knowledge</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mental process is “retrieval and activation of short-term memory” (Kruse)</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189000" y="146160"/>
            <a:ext cx="8504280" cy="1261800"/>
          </a:xfrm>
          <a:prstGeom prst="rect">
            <a:avLst/>
          </a:prstGeom>
          <a:ln w="0">
            <a:noFill/>
          </a:ln>
        </p:spPr>
      </p:pic>
      <p:sp>
        <p:nvSpPr>
          <p:cNvPr id="321"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ach!</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content is presented to stud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ent should be presented in a variety of ways and should contain some form of media</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lective perception of conten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189000" y="146160"/>
            <a:ext cx="8504280" cy="1261800"/>
          </a:xfrm>
          <a:prstGeom prst="rect">
            <a:avLst/>
          </a:prstGeom>
          <a:ln w="0">
            <a:noFill/>
          </a:ln>
        </p:spPr>
      </p:pic>
      <p:sp>
        <p:nvSpPr>
          <p:cNvPr id="323"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examples of topic being learning to help move content in long term memory</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Real life” examples</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or additional content may be taught during this stage</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mantic encoding for storage long-term memory”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2:19:32Z</dcterms:created>
  <dc:creator/>
  <dc:description/>
  <dc:language>en-US</dc:language>
  <cp:lastModifiedBy>nbyler</cp:lastModifiedBy>
  <dcterms:modified xsi:type="dcterms:W3CDTF">2010-02-05T22:57:2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0801033</vt:lpwstr>
  </property>
</Properties>
</file>