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886-FCB4-4E85-9A2F-5497156A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A9B-A657-457A-AA91-C9087258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612-46C8-427B-99D2-39F10CB2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E2B-14E6-4349-9681-DA4B01E7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BCA2-CB08-4A31-BEFC-DF085F4B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FCCB-8654-409E-BA25-B997D0BF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01B9-5E77-4749-8C53-294D550C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AED2-A28B-4100-9748-5C2E7F82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3951-C0CE-4A34-8909-88C30B8A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666A-8E56-43B9-98C0-93CF1BAB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0D79-00F2-416F-95A4-2EB3317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F74-9CB0-4DD2-981B-EBDE97E1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A992-E233-41DD-B105-3BDE0054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2878-ABD1-4994-BCC3-FCF79B1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2631-0966-47F0-92FD-CA456000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2772-41C8-46E1-9808-E6E4F683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D7AB-90D3-4319-8EFF-F45EA26C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193-BBCB-4235-9CB0-9B1FDA50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BEA-7D59-4F5A-BB28-D69A0E56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120-E822-44D6-8391-B3CB7C14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FA8-8547-4347-84A4-CAADB2D9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D78-D8D2-4297-A776-9B4F11A6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549-B73C-44E7-986E-C0BBC77B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E23-B545-41DD-9CF0-4D66AB0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22AD-B904-4E86-8418-390A77154FA6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61B8-AC7A-4900-9F75-45CA2A3B8524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citation_machine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landmark-project.com/rubric_builder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pinetlibrary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classblogmeister.com/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epnweb.org/" TargetMode="Externa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Arial"/>
              </a:rPr>
              <a:t>David Warlick</a:t>
            </a:r>
            <a:br>
              <a:rPr sz="6000"/>
            </a:b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D 530 Theorist Present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pring Semester 201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auren Frederic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rew up in western North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d not enjoy education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t enjoyed learn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d some outstanding teachers and decided he wanted to be a teach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aught middle school social studies, math, and science for 10 yea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334120" y="9144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3086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5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gan introducing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o the educational potentia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personal comput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ilt the nation’s first state departmen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education websit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 1995, started “The Landmark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ject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novations firm in Raleigh North 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2895480" cy="21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308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elivers conferences and workshops to educators in the U.S. and many other countri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s free technology tools for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s written three books on technology use in educ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ntributes to many publica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echnology and Learning Magazine, Education World, CUE Online, The Washington Post, The New York Ti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world is continuously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nature of information is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oday’s students are differen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n order to reach today’s students, we need to use new learning and teaching techniqu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iteracy for the 21st century needs to be redefine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 Landmark Projec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innovations firm started in 1995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educators with free resources to help integrate technology into the classroom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tended to share knowledge and idea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information on using Twitter, blogging, raw data, images, visualization, media, et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ols for Teach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itation Machine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citation_machine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bibliographic citation generator serving 500,000+ page views a da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Rubric Build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4"/>
              </a:rPr>
              <a:t>http://www.landmark-project.com/rubric_builder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rubric library that gives teachers access to thousands of rubric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PiNet Library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6"/>
              </a:rPr>
              <a:t>http://pinetlibrary.com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 online bookmark tool that also integrates SLATE and offers an easy to use classroom Web site servic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lass Blogmeist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8"/>
              </a:rPr>
              <a:t>http://classblogmeister.com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free classroom blogging tool serving more than 160,000 user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 Education Podcast Network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10"/>
              </a:rPr>
              <a:t>http://epnweb.org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directory of education-related pod cast program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ublica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aw Materials for the Mind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4th Edition — focuses on integrating technology into the curriculum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edefining Literacy for the 21st Century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— a succinct model for literacy skills in a world of networked digital information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lassroom Blogging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2nd Edition— One of the first books for teachers about blogging and other Web 2.0 application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2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3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classblogmeister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landmark-project.com/rubric_builder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landmark-project.com/citation_machine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0:57:03Z</dcterms:created>
  <dc:creator>BASD BASD</dc:creator>
  <dc:description/>
  <dc:language>en-US</dc:language>
  <cp:lastModifiedBy>BASD BASD</cp:lastModifiedBy>
  <dcterms:modified xsi:type="dcterms:W3CDTF">2010-02-03T21:40:15Z</dcterms:modified>
  <cp:revision>30</cp:revision>
  <dc:subject/>
  <dc:title>David Warlick </dc:title>
</cp:coreProperties>
</file>