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215-66DD-4826-9E4D-5037DFBA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6F0-B290-4758-BA69-BFDEB3A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C43-5E0F-4B44-BF0B-DF13D64F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79B-BB5B-4C08-9058-B405E56A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42A0-87A8-4DD3-BBBF-56B4577F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8188-DDC7-49A4-A0C4-C63A32FC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8B08-B7F3-478A-87CC-BA557A4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39AB-D713-46A5-BCAE-0492B27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7A6F-96B8-4838-95D9-46495777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F08D-CB58-4301-B896-BE96CEFB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C31-7094-4AED-9190-836B2E4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C76-F709-419B-A1C0-B32A802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4A5-F292-4082-A821-A867FAD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418B-55D4-44D2-8C27-A27B639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813F-38D2-47B6-ABE6-29161FD8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A3C9-F20C-4561-8DE1-95BFB92A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8D21-6435-4578-89AE-BF2D1F83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568-9142-45B2-8AE7-EDF9CD4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BD2-3DE0-45D5-868D-D1A05E7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DC8-6898-443E-A1DF-E04E3819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C4D-D47A-4BFA-ADC6-25F5E7D9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DEA-D9D6-44F5-BEEA-8FB5CD6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225-FB58-4516-9A67-FEE208B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653-7F45-4CD8-8BD0-5C47666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2D9-E2E9-4672-B2A1-ECECAAF1D90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85D-0D00-499F-9FD0-14463AC19D07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citation_machine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landmark-project.com/rubric_builder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pinetlibrary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classblogmeister.com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epnweb.org/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David Warlick</a:t>
            </a:r>
            <a:br>
              <a:rPr sz="6000"/>
            </a:b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D 530 Theorist Present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pring Semester 201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uren Frederi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w up in western North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d not enjoy education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t enjoyed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d some outstanding teachers and decided he wanted to be a teach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aught middle school social studies, math, and science for 10 yea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34120" y="914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3086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gan introducing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the educational potenti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personal compu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t the nation’s first state departme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education websit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1995, started “The Landmark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ject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novations firm in Raleigh North 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2895480" cy="21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308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livers conferences and workshops to educators in the U.S. and many other countr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s free technology tools for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written three books on technology use in edu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tributes to many publi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chnology and Learning Magazine, Education World, CUE Online, The Washington Post, The New York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world is continuously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nature of information is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oday’s students are differ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order to reach today’s students, we need to use new learning and teaching techniqu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iteracy for the 21st century needs to be redefin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 Landmark Projec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innovations firm started in 1995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educators with free resources to help integrate technology into the classro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nded to share knowledge and idea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information on using Twitter, blogging, raw data, images, visualization, media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ols for Teach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itation Machine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citation_machine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bibliographic citation generator serving 500,000+ page views a da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Rubric Build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http://www.landmark-project.com/rubric_builder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rubric library that gives teachers access to thousands of rubric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iNet Library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pinetlibrary.com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 online bookmark tool that also integrates SLATE and offers an easy to use classroom Web site servi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lass Blogmeist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8"/>
              </a:rPr>
              <a:t>http://classblogmeister.com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free classroom blogging tool serving more than 160,000 user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Education Podcast Network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10"/>
              </a:rPr>
              <a:t>http://epnweb.org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directory of education-related pod cast progr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aw Materials for the Mind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4th Edition — focuses on integrating technology into the curriculu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defining Literacy for the 21st Century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— a succinct model for literacy skills in a world of networked digital informatio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assroom Blogging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2nd Edition— One of the first books for teachers about blogging and other Web 2.0 application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2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classblogmeister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landmark-project.com/rubric_builder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landmark-project.com/citation_machine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57:03Z</dcterms:created>
  <dc:creator>BASD BASD</dc:creator>
  <dc:description/>
  <dc:language>en-US</dc:language>
  <cp:lastModifiedBy>BASD BASD</cp:lastModifiedBy>
  <dcterms:modified xsi:type="dcterms:W3CDTF">2010-02-03T21:40:15Z</dcterms:modified>
  <cp:revision>30</cp:revision>
  <dc:subject/>
  <dc:title>David Warlick </dc:title>
</cp:coreProperties>
</file>