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84F-80C2-4F91-B31E-0F5994CB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F80-D943-46EB-9BBF-7686FA37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C92-528A-4F29-BF82-6C81F38D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E83-6A1F-46B1-8D9F-D11C1635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ACDC-B17B-4ECC-92A2-E6979726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0CB-D75B-42B9-B1FF-68BCE703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4B5B-CE77-4633-9912-16B99732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D59F-D6E6-477D-8A25-DD234CD1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FE1-043E-4314-A14D-C2296F9E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D6C2-D293-422D-B9A2-4927FFE2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9168-F14F-408C-B7E7-F925B2D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A85-BB82-45A1-BFEA-34351303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81C9-5098-4F2B-AF82-F7E4980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190-E831-4F12-B065-7EE15288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6CE-FF66-4439-A186-901D749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CBE4-8F35-40F2-816C-8339F9C2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5867-A5D5-4AB5-A439-A51B0307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376-3290-414F-9BFA-460123A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101-8848-45F8-B405-15F48E4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EA8-180B-46F1-AD50-98B75D7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B19-1368-4FBD-85D5-26661AA6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956-BDCE-425B-9A54-5E1C6F6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2C3-D22F-42B4-A8CF-B4DD895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0B5-4972-4917-B5BC-5103AA1C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928-350A-4832-B838-7CA7FC0A0DD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8342-F661-4606-BC96-1B99711B229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citation_machine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landmark-project.com/rubric_builder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pinetlibrary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classblogmeister.com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epnweb.org/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David Warlick</a:t>
            </a:r>
            <a:br>
              <a:rPr sz="6000"/>
            </a:b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D 530 Theorist Present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pring Semester 201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uren Frederi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w up in western North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d not enjoy education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t enjoyed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d some outstanding teachers and decided he wanted to be a teach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aught middle school social studies, math, and science for 10 yea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34120" y="914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3086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gan introducing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the educational potenti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personal compu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t the nation’s first state departme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education websit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1995, started “The Landmark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ject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novations firm in Raleigh North 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2895480" cy="21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308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livers conferences and workshops to educators in the U.S. and many other countr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s free technology tools for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written three books on technology use in edu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tributes to many publi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chnology and Learning Magazine, Education World, CUE Online, The Washington Post, The New York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world is continuously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nature of information is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oday’s students are differ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order to reach today’s students, we need to use new learning and teaching techniqu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iteracy for the 21st century needs to be redefin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 Landmark Projec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innovations firm started in 1995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educators with free resources to help integrate technology into the classro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nded to share knowledge and idea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information on using Twitter, blogging, raw data, images, visualization, media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ols for Teach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itation Machine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citation_machine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bibliographic citation generator serving 500,000+ page views a da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Rubric Build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http://www.landmark-project.com/rubric_builder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rubric library that gives teachers access to thousands of rubric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iNet Library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pinetlibrary.com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 online bookmark tool that also integrates SLATE and offers an easy to use classroom Web site servi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lass Blogmeist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8"/>
              </a:rPr>
              <a:t>http://classblogmeister.com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free classroom blogging tool serving more than 160,000 user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Education Podcast Network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10"/>
              </a:rPr>
              <a:t>http://epnweb.org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directory of education-related pod cast progr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aw Materials for the Mind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4th Edition — focuses on integrating technology into the curriculu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defining Literacy for the 21st Century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— a succinct model for literacy skills in a world of networked digital informatio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assroom Blogging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2nd Edition— One of the first books for teachers about blogging and other Web 2.0 application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2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classblogmeister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landmark-project.com/rubric_builder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landmark-project.com/citation_machine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57:03Z</dcterms:created>
  <dc:creator>BASD BASD</dc:creator>
  <dc:description/>
  <dc:language>en-US</dc:language>
  <cp:lastModifiedBy>BASD BASD</cp:lastModifiedBy>
  <dcterms:modified xsi:type="dcterms:W3CDTF">2010-02-03T21:40:15Z</dcterms:modified>
  <cp:revision>30</cp:revision>
  <dc:subject/>
  <dc:title>David Warlick </dc:title>
</cp:coreProperties>
</file>