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D9B2-F580-4880-A8F8-F441A7E7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2AC2-59D9-45B0-8188-D431CBD0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0968-DAC7-4C44-BF1B-5A512C30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5D71-FF96-4D8F-8E61-EB24F0CA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E17E-D8A8-49E0-BA2B-C5CEE85CC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F056-AA5E-412B-BC58-F2858AC5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3E60-5597-46F6-B408-FA36459C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4077-E066-4A30-BD53-B254E4EE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7687-6BDE-44D5-AA3C-C810643F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9B30-038D-4C6B-98EE-C184ADD6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6044-3623-4CD0-909A-893D5F99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104B-2800-4370-879A-2A9BFA22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2CE3-1701-467F-8913-9B48E8C9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A203-24D3-45F2-AAF1-00EFA6C3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9922-00E9-4B7C-AF47-A8B1E5D9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6619-70C1-4B13-A8E6-4629FA36E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C3D6-EDAB-4E3A-8832-A7A48AB7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E28D-BAEA-46EB-92B3-28C24D58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2A4F-2DFB-404C-AEE2-2819E2BA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BF60-670A-4253-87F2-2A1591C6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6769-F294-4823-A109-5C58BD26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1C2B-DAD6-4261-B67A-B7824DAB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D8A3-6C8B-4ECD-847D-D5685EE6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6C31-41CF-4CB6-862C-A7B46020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E6B8-6621-400F-ABC5-EC729977F7A9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16A5-1720-46E7-9691-FA92D1076B1B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pct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andmark-project.com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andmark-project.com/citation_machine/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landmark-project.com/rubric_builder/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pinetlibrary.com/" TargetMode="External"/><Relationship Id="rId7" Type="http://schemas.openxmlformats.org/officeDocument/2006/relationships/image" Target="../media/image2.png"/><Relationship Id="rId8" Type="http://schemas.openxmlformats.org/officeDocument/2006/relationships/hyperlink" Target="http://classblogmeister.com/" TargetMode="External"/><Relationship Id="rId9" Type="http://schemas.openxmlformats.org/officeDocument/2006/relationships/image" Target="../media/image2.png"/><Relationship Id="rId10" Type="http://schemas.openxmlformats.org/officeDocument/2006/relationships/hyperlink" Target="http://epnweb.org/" TargetMode="External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andmark-project.com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0080"/>
                </a:solidFill>
                <a:latin typeface="Arial"/>
              </a:rPr>
              <a:t>David Warlick</a:t>
            </a:r>
            <a:br>
              <a:rPr sz="6000"/>
            </a:b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ED 530 Theorist Presenta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pring Semester 2010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Lauren Frederick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rew up in western North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arolina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Did not enjoy education,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but enjoyed learning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ad some outstanding teachers and decided he wanted to be a teach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aught middle school social studies, math, and science for 10 year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5334120" y="9144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5800" y="63086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Image Source:  http://davidwarlick.com/wordpress/?page_id=5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Began introducing teacher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o the educational potentia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f personal computer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Built the nation’s first state departmen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f education websit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n 1995, started “The Landmark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Project”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 professional development and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nnovations firm in Raleigh North Carolina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562720" y="838080"/>
            <a:ext cx="2895480" cy="2176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5800" y="63086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Image Source:  http://davidwarlick.com/wordpress/?page_id=2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Delivers conferences and workshops to educators in the U.S. and many other countri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s free technology tools for teacher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as written three books on technology use in education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ontributes to many publication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echnology and Learning Magazine, Education World, CUE Online, The Washington Post, The New York Tim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Theor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world is continuously changing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nature of information is changing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oday’s students are differen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In order to reach today’s students, we need to use new learning and teaching techniques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Literacy for the 21st century needs to be redefined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The Landmark Projec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Arial"/>
                <a:hlinkClick r:id="rId2"/>
              </a:rPr>
              <a:t>http://landmark-project.com/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 professional development and innovations firm started in 1995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Provides educators with free resources to help integrate technology into the classroom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ntended to share knowledge and idea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Provides information on using Twitter, blogging, raw data, images, visualization, media, etc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Tools for Teacher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Citation Machine </a:t>
            </a:r>
            <a:r>
              <a:rPr b="0" lang="en-US" sz="2000" spc="-1" strike="noStrike">
                <a:solidFill>
                  <a:srgbClr val="70aabf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70aabf"/>
                </a:solidFill>
                <a:uFillTx/>
                <a:latin typeface="Arial"/>
                <a:hlinkClick r:id="rId2"/>
              </a:rPr>
              <a:t>http://landmark-project.com/citation_machine/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a bibliographic citation generator serving 500,000+ page views a day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Rubric Builder </a:t>
            </a:r>
            <a:r>
              <a:rPr b="0" lang="en-US" sz="2000" spc="-1" strike="noStrike">
                <a:solidFill>
                  <a:srgbClr val="70aabf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70aabf"/>
                </a:solidFill>
                <a:uFillTx/>
                <a:latin typeface="Arial"/>
                <a:hlinkClick r:id="rId4"/>
              </a:rPr>
              <a:t>http://www.landmark-project.com/rubric_builder/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A rubric library that gives teachers access to thousands of rubric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PiNet Library </a:t>
            </a:r>
            <a:r>
              <a:rPr b="0" lang="en-US" sz="2000" spc="-1" strike="noStrike">
                <a:solidFill>
                  <a:srgbClr val="70aabf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70aabf"/>
                </a:solidFill>
                <a:uFillTx/>
                <a:latin typeface="Arial"/>
                <a:hlinkClick r:id="rId6"/>
              </a:rPr>
              <a:t>http://pinetlibrary.com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an online bookmark tool that also integrates SLATE and offers an easy to use classroom Web site servic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Class Blogmeister </a:t>
            </a:r>
            <a:r>
              <a:rPr b="0" lang="en-US" sz="2000" spc="-1" strike="noStrike">
                <a:solidFill>
                  <a:srgbClr val="70aabf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70aabf"/>
                </a:solidFill>
                <a:uFillTx/>
                <a:latin typeface="Arial"/>
                <a:hlinkClick r:id="rId8"/>
              </a:rPr>
              <a:t>http://classblogmeister.com/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a free classroom blogging tool serving more than 160,000 user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The Education Podcast Network </a:t>
            </a:r>
            <a:r>
              <a:rPr b="0" lang="en-US" sz="2000" spc="-1" strike="noStrike">
                <a:solidFill>
                  <a:srgbClr val="70aabf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70aabf"/>
                </a:solidFill>
                <a:uFillTx/>
                <a:latin typeface="Arial"/>
                <a:hlinkClick r:id="rId10"/>
              </a:rPr>
              <a:t>http://epnweb.org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a directory of education-related pod cast program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Publication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Raw Materials for the Mind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: 4th Edition — focuses on integrating technology into the curriculum,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Redefining Literacy for the 21st Century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— a succinct model for literacy skills in a world of networked digital information,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Classroom Blogging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: 2nd Edition— One of the first books for teachers about blogging and other Web 2.0 applications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Arial"/>
                <a:hlinkClick r:id="rId2"/>
              </a:rPr>
              <a:t>http://landmark-project.com/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ttp://davidwarlick.com/wordpress/?page_id=2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ttp://davidwarlick.com/wordpress/?page_id=3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ttp://www.classblogmeister.com/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aab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ttp://www.landmark-project.com/rubric_builder/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aab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ttp://landmark-project.com/citation_machine/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20:57:03Z</dcterms:created>
  <dc:creator>BASD BASD</dc:creator>
  <dc:description/>
  <dc:language>en-US</dc:language>
  <cp:lastModifiedBy>BASD BASD</cp:lastModifiedBy>
  <dcterms:modified xsi:type="dcterms:W3CDTF">2010-02-03T21:40:15Z</dcterms:modified>
  <cp:revision>30</cp:revision>
  <dc:subject/>
  <dc:title>David Warlick </dc:title>
</cp:coreProperties>
</file>