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C3A2-6D13-4ABB-9769-D877185F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35ED-208D-4368-AB70-EC079CC3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6224-430D-47C4-BC40-D9676C8E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D3CD-C1FA-4251-8C23-626A613C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20AB-BDDC-4729-82BA-169C9EBF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F32E-F1AF-4B5E-9A34-786C1229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8F75-F602-4B64-8131-D2EFD47B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4B5D-A583-4A0D-BA75-BF73AD6F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629F-4175-4385-AF95-1C2D8C3D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173D-95B6-489F-91BA-4A66EC43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8951-6FE3-45D3-B10B-75D299A6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B942-CB4C-4CCB-B56E-B803F7C9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C4D3-B953-43A7-8141-BC9F0E1E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5B78-3F36-4C40-8AB5-5EC05FB7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EC9F-9087-4060-80EE-63F63D1D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35F9-0E1A-42C6-A3C6-C3216CB3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D1DC-7420-4E02-A500-8C72C5768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3B40-200F-4D91-9CE5-BA0440C0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4180-BEF3-415E-8886-4D9A60AA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3B71-B0CF-4BD3-8921-0AFC47F2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434D-236C-4810-9BA4-738AD186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D29B-0BED-47D1-8B35-20213BAE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12D1-8D8C-4747-80CB-F996C186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C85B-85C6-4F06-99D6-7D3B39BA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2E03-C7A5-4325-9D57-E02677E9C1D5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8D93-188A-4776-A558-3FFA55B74CE1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pct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andmark-project.com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andmark-project.com/citation_machine/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landmark-project.com/rubric_builder/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pinetlibrary.com/" TargetMode="External"/><Relationship Id="rId7" Type="http://schemas.openxmlformats.org/officeDocument/2006/relationships/image" Target="../media/image2.png"/><Relationship Id="rId8" Type="http://schemas.openxmlformats.org/officeDocument/2006/relationships/hyperlink" Target="http://classblogmeister.com/" TargetMode="External"/><Relationship Id="rId9" Type="http://schemas.openxmlformats.org/officeDocument/2006/relationships/image" Target="../media/image2.png"/><Relationship Id="rId10" Type="http://schemas.openxmlformats.org/officeDocument/2006/relationships/hyperlink" Target="http://epnweb.org/" TargetMode="External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andmark-project.com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0080"/>
                </a:solidFill>
                <a:latin typeface="Arial"/>
              </a:rPr>
              <a:t>David Warlick</a:t>
            </a:r>
            <a:br>
              <a:rPr sz="6000"/>
            </a:b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ED 530 Theorist Presenta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pring Semester 2010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Lauren Frederick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rew up in western North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arolina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Did not enjoy education,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but enjoyed learning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ad some outstanding teachers and decided he wanted to be a teach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aught middle school social studies, math, and science for 10 year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5334120" y="9144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5800" y="63086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Image Source:  http://davidwarlick.com/wordpress/?page_id=5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Began introducing teacher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o the educational potentia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f personal computer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Built the nation’s first state departmen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f education websit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n 1995, started “The Landmark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Project”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 professional development and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nnovations firm in Raleigh North Carolina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562720" y="838080"/>
            <a:ext cx="2895480" cy="2176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5800" y="63086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Image Source:  http://davidwarlick.com/wordpress/?page_id=2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Delivers conferences and workshops to educators in the U.S. and many other countri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s free technology tools for teacher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as written three books on technology use in education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ontributes to many publication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echnology and Learning Magazine, Education World, CUE Online, The Washington Post, The New York Tim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Theor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world is continuously changing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nature of information is changing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oday’s students are differen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In order to reach today’s students, we need to use new learning and teaching techniques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Literacy for the 21st century needs to be redefined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The Landmark Projec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Arial"/>
                <a:hlinkClick r:id="rId2"/>
              </a:rPr>
              <a:t>http://landmark-project.com/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 professional development and innovations firm started in 1995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Provides educators with free resources to help integrate technology into the classroom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ntended to share knowledge and idea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Provides information on using Twitter, blogging, raw data, images, visualization, media, etc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Tools for Teacher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Citation Machine </a:t>
            </a:r>
            <a:r>
              <a:rPr b="0" lang="en-US" sz="2000" spc="-1" strike="noStrike">
                <a:solidFill>
                  <a:srgbClr val="70aabf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70aabf"/>
                </a:solidFill>
                <a:uFillTx/>
                <a:latin typeface="Arial"/>
                <a:hlinkClick r:id="rId2"/>
              </a:rPr>
              <a:t>http://landmark-project.com/citation_machine/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a bibliographic citation generator serving 500,000+ page views a day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Rubric Builder </a:t>
            </a:r>
            <a:r>
              <a:rPr b="0" lang="en-US" sz="2000" spc="-1" strike="noStrike">
                <a:solidFill>
                  <a:srgbClr val="70aabf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70aabf"/>
                </a:solidFill>
                <a:uFillTx/>
                <a:latin typeface="Arial"/>
                <a:hlinkClick r:id="rId4"/>
              </a:rPr>
              <a:t>http://www.landmark-project.com/rubric_builder/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A rubric library that gives teachers access to thousands of rubric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PiNet Library </a:t>
            </a:r>
            <a:r>
              <a:rPr b="0" lang="en-US" sz="2000" spc="-1" strike="noStrike">
                <a:solidFill>
                  <a:srgbClr val="70aabf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70aabf"/>
                </a:solidFill>
                <a:uFillTx/>
                <a:latin typeface="Arial"/>
                <a:hlinkClick r:id="rId6"/>
              </a:rPr>
              <a:t>http://pinetlibrary.com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an online bookmark tool that also integrates SLATE and offers an easy to use classroom Web site servic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Class Blogmeister </a:t>
            </a:r>
            <a:r>
              <a:rPr b="0" lang="en-US" sz="2000" spc="-1" strike="noStrike">
                <a:solidFill>
                  <a:srgbClr val="70aabf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70aabf"/>
                </a:solidFill>
                <a:uFillTx/>
                <a:latin typeface="Arial"/>
                <a:hlinkClick r:id="rId8"/>
              </a:rPr>
              <a:t>http://classblogmeister.com/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a free classroom blogging tool serving more than 160,000 user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The Education Podcast Network </a:t>
            </a:r>
            <a:r>
              <a:rPr b="0" lang="en-US" sz="2000" spc="-1" strike="noStrike">
                <a:solidFill>
                  <a:srgbClr val="70aabf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70aabf"/>
                </a:solidFill>
                <a:uFillTx/>
                <a:latin typeface="Arial"/>
                <a:hlinkClick r:id="rId10"/>
              </a:rPr>
              <a:t>http://epnweb.org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a directory of education-related pod cast program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Publication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Raw Materials for the Mind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: 4th Edition — focuses on integrating technology into the curriculum,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Redefining Literacy for the 21st Century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— a succinct model for literacy skills in a world of networked digital information,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Classroom Blogging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: 2nd Edition— One of the first books for teachers about blogging and other Web 2.0 applications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Arial"/>
                <a:hlinkClick r:id="rId2"/>
              </a:rPr>
              <a:t>http://landmark-project.com/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ttp://davidwarlick.com/wordpress/?page_id=2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ttp://davidwarlick.com/wordpress/?page_id=3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ttp://www.classblogmeister.com/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aab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ttp://www.landmark-project.com/rubric_builder/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aab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ttp://landmark-project.com/citation_machine/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20:57:03Z</dcterms:created>
  <dc:creator>BASD BASD</dc:creator>
  <dc:description/>
  <dc:language>en-US</dc:language>
  <cp:lastModifiedBy>BASD BASD</cp:lastModifiedBy>
  <dcterms:modified xsi:type="dcterms:W3CDTF">2010-02-03T21:40:15Z</dcterms:modified>
  <cp:revision>30</cp:revision>
  <dc:subject/>
  <dc:title>David Warlick </dc:title>
</cp:coreProperties>
</file>