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785-1379-44C9-A1DD-1268DD72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EDD6-34D9-4931-8AEB-1607C5F8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F321-C6D7-4F6B-9D4D-00CAEE22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7B2E-0BE6-4C70-99E1-E9862E07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CB73-BAF9-469F-A558-1A76D07F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AFD1-5CF9-4923-817E-82522DEF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0510-8BD6-4E9E-9E83-D745A21E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3DAD-75D6-4C59-8E9C-C27D7421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08E5-0E7B-4636-AFAF-2E2F78CC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8924-E2D2-4085-999F-FBBC3176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36BB-548C-4BEC-874C-E915046D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2CC6-0292-4BAE-8D9C-490CC868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B4B1-970E-4200-9F35-3CD5E186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147B-1252-4D27-8AE6-E1DAA7BD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D86D-4873-4CDE-B1D9-24CD656B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E39B-4813-4513-917D-FFFFE467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E89D-0B45-4147-913A-37901CD5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1EE0-5D45-4353-8C1F-5AFC8CC9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338-BD60-4B47-AC69-DBE4E41A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96D2-E6E1-475D-8D3A-9977E9EE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0095-477B-4762-B171-93CC966C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30F-1C7F-4365-9D2F-E4C4333D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9273-B44C-435B-A72E-E7B6F6A5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B367-E263-4E99-854C-F17C3BB5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4CC0-738D-4A2E-B347-47884BD59DB4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046D-B576-4BA8-9BA6-5CBF26EDDBEB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ct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andmark-project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andmark-project.com/citation_machine/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landmark-project.com/rubric_builder/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pinetlibrary.com/" TargetMode="External"/><Relationship Id="rId7" Type="http://schemas.openxmlformats.org/officeDocument/2006/relationships/image" Target="../media/image2.png"/><Relationship Id="rId8" Type="http://schemas.openxmlformats.org/officeDocument/2006/relationships/hyperlink" Target="http://classblogmeister.com/" TargetMode="External"/><Relationship Id="rId9" Type="http://schemas.openxmlformats.org/officeDocument/2006/relationships/image" Target="../media/image2.png"/><Relationship Id="rId10" Type="http://schemas.openxmlformats.org/officeDocument/2006/relationships/hyperlink" Target="http://epnweb.org/" TargetMode="External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andmark-project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80"/>
                </a:solidFill>
                <a:latin typeface="Arial"/>
              </a:rPr>
              <a:t>David Warlick</a:t>
            </a:r>
            <a:br>
              <a:rPr sz="6000"/>
            </a:b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ED 530 Theorist Present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pring Semester 2010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auren Frederic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rew up in western North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arolin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id not enjoy education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ut enjoyed learning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ad some outstanding teachers and decided he wanted to be a teach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aught middle school social studies, math, and science for 10 yea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334120" y="9144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63086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Image Source:  http://davidwarlick.com/wordpress/?page_id=5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egan introducing teache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o the educational potentia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f personal compute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uilt the nation’s first state departmen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f education websit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 1995, started “The Landmark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oject”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 professional development and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novations firm in Raleigh North Carolin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562720" y="838080"/>
            <a:ext cx="2895480" cy="2176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5800" y="63086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Image Source:  http://davidwarlick.com/wordpress/?page_id=2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elivers conferences and workshops to educators in the U.S. and many other countri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s free technology tools for teache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as written three books on technology use in educatio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ontributes to many publication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echnology and Learning Magazine, Education World, CUE Online, The Washington Post, The New York Tim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heor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world is continuously changing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nature of information is changing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oday’s students are differen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In order to reach today’s students, we need to use new learning and teaching technique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iteracy for the 21st century needs to be redefined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he Landmark Projec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Arial"/>
                <a:hlinkClick r:id="rId2"/>
              </a:rPr>
              <a:t>http://landmark-project.com/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 professional development and innovations firm started in 1995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ovides educators with free resources to help integrate technology into the classroom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tended to share knowledge and idea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ovides information on using Twitter, blogging, raw data, images, visualization, media, etc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ools for Teacher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itation Machine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2"/>
              </a:rPr>
              <a:t>http://landmark-project.com/citation_machine/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 bibliographic citation generator serving 500,000+ page views a da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Rubric Builder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4"/>
              </a:rPr>
              <a:t>http://www.landmark-project.com/rubric_builder/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 rubric library that gives teachers access to thousands of rubric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PiNet Library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6"/>
              </a:rPr>
              <a:t>http://pinetlibrary.com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n online bookmark tool that also integrates SLATE and offers an easy to use classroom Web site servic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lass Blogmeister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8"/>
              </a:rPr>
              <a:t>http://classblogmeister.com/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 free classroom blogging tool serving more than 160,000 user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The Education Podcast Network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10"/>
              </a:rPr>
              <a:t>http://epnweb.org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 directory of education-related pod cast program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ublication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Raw Materials for the Mind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: 4th Edition — focuses on integrating technology into the curriculum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Redefining Literacy for the 21st Century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— a succinct model for literacy skills in a world of networked digital information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Classroom Blogging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: 2nd Edition— One of the first books for teachers about blogging and other Web 2.0 applications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Arial"/>
                <a:hlinkClick r:id="rId2"/>
              </a:rPr>
              <a:t>http://landmark-project.com/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davidwarlick.com/wordpress/?page_id=2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davidwarlick.com/wordpress/?page_id=3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www.classblogmeister.com/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www.landmark-project.com/rubric_builder/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landmark-project.com/citation_machine/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0:57:03Z</dcterms:created>
  <dc:creator>BASD BASD</dc:creator>
  <dc:description/>
  <dc:language>en-US</dc:language>
  <cp:lastModifiedBy>BASD BASD</cp:lastModifiedBy>
  <dcterms:modified xsi:type="dcterms:W3CDTF">2010-02-03T21:40:15Z</dcterms:modified>
  <cp:revision>30</cp:revision>
  <dc:subject/>
  <dc:title>David Warlick </dc:title>
</cp:coreProperties>
</file>