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225-8E7A-4F1B-B228-C248F9EA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422-AFC7-452C-8071-C4D9B0B5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19D-DFBE-4E04-B4F7-36876B2E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503-D5CA-45E1-9575-170B3552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6E6-6CBB-4491-954A-AB993EC6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1BB-8045-4C13-9CC8-39830D02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70C-EB1A-43F4-93FE-442EC6B1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A03-9386-48DA-B608-A38CF66D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6D38-0ACB-4FEE-98DD-716CCF35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C8F-F92E-45D6-927D-395B4CA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40A-F234-4BE0-9C81-A2B582B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158-6E79-45EA-BCEF-CACCA00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0BE-5F45-469F-B234-19DA826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71A4-42F2-46DD-BBA6-988613E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F526-7217-4B56-B2F9-54BA802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5B33-3529-47D3-8C98-4A5612C1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0756-17F0-4024-B06D-567A0D4A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ACBE-EE4C-4511-8189-53360D2F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699B-EDDD-43AC-90D0-35B8DF4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5C1E-5039-4963-B345-7C27A379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AEB3-AC5B-4249-8E71-23966D4A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BC1E-5B40-4012-9A22-D9E9B3F0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59D-8AD1-43CB-88CE-A084390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D25B-7DF1-4CEF-804E-D7DB7C47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EB78-E75B-4AC4-853E-B47AD5B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13C8-B67B-483B-B10E-48DF7F0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AC8D-F8B5-447E-8CC4-1ECF521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395C-6A24-4152-B599-3977B9B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77B4-9BE4-4AB3-9BB1-168C68F3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9DDE-BA83-460A-934C-C706DF65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9AC-DA5B-45BB-AFB0-3BC22D06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BC5-A4E8-413B-8521-2A1917F5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F1D-E7CA-46A1-B2EA-6DFC05C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A31-D05C-4D4B-9787-47C2140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501-9C86-4217-B040-8268080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4C1-F2DB-4748-A8E2-681530F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3B7-AFE3-46BE-9004-6A1776FEC7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7F05-BD9B-4C04-823C-8AA3045811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6B0-EACB-47AE-9629-D1F489A6C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kit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owledgeforum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457200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l Bereiter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fessor Emeritu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051080"/>
            <a:ext cx="65152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-director of the Education Commons at Ontario Institute for Studies in Education at the University of Tor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3560" y="247968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9432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16) 923-6641 e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bereiter@oise.utoront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0200" y="2424240"/>
            <a:ext cx="16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age from www.iki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eiter, C, &amp; Scardamalia, M. (1998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eyond Bloom'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xonomy: rethinking knowledge for the knowledge ag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veloping higher-level approaches to knowled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http://ikit.org/fulltext/1998BeyondBloom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 Knowledge Innovation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kit.org/people/~berei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AP :: 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DAP :: Ontario Institut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tudies in Education of the University of Toro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hdap.oise.utoronto.ca/Research/Faculty_Members/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essors_Emeriti/Carl_Bereiter/index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Building - a Definition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Knowledg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novation and 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ebruary 4, 2010,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kit.org/kb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er profile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nadian Education Associ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ved from www.cea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e.ca/foc.cfm?subsection=map&amp;page=bio&amp;subpage=c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founder of IKIT - Institute for Knowledge Innovation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ed CSI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US Academy of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instruction, cognitive psychology, and education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K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s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build communities aimed at advancing beyond ‘best practices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community pooling intellectual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building –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reation and improvement of idea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52880" y="457200"/>
            <a:ext cx="204156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-Supported Intentional Learning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with Marlene Scardama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ed system for collaborative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version –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Knowledge Foru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used worldwide from primary grades to university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text and graphics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s as communities: construction of knowledge is collective g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create nodes – pieces of information on a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students comment which creates dialogue and an accumulation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refine thinking by reading and commenting on others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2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icle: Beyond Bloom’s Taxonomy: Rethinking Knowledge for the Knowledge Age – Developing Higher-Level Approaches to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Approach to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Level 0 to 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: see knowledge as the way things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understand one person may know something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other does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can relate things they know about a top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can take into account what the r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lready kn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vels of Approach to Knowledge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: knowledge viewed from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: students view themselves 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onstructors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: knowledge objects are improv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: knowledge objects become th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one can relate to, use, manipulate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judge, and have feelings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05720" y="20574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-Writer of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rriculum Proje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RA/Open Court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se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Product Details"/>
          <p:cNvPicPr/>
          <p:nvPr/>
        </p:nvPicPr>
        <p:blipFill>
          <a:blip r:embed="rId2"/>
          <a:stretch/>
        </p:blipFill>
        <p:spPr>
          <a:xfrm>
            <a:off x="1828800" y="3886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9880" y="3962520"/>
            <a:ext cx="4114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al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technology that includes e-textbook, e-games, and e-Math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roduct Details"/>
          <p:cNvPicPr/>
          <p:nvPr/>
        </p:nvPicPr>
        <p:blipFill>
          <a:blip r:embed="rId4"/>
          <a:stretch/>
        </p:blipFill>
        <p:spPr>
          <a:xfrm>
            <a:off x="64008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67200" y="59850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s from www.amaz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shed in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amp;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Teaching Disadvantaged Children in the Preschool (19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sychology of Written Composition (198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passing Ourselves: An Inquiry into the Nature and Implications of Expertise (199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Mind in the Knowledge Age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ducation for the Knowledge Age: Design-centered Models of Teaching and Instruction (in the Handbook of Educational Psychology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83240" y="575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ith M. Scarda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8840" y="5715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With S. Engl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30:13Z</dcterms:created>
  <dc:creator>bbarto</dc:creator>
  <dc:description/>
  <dc:language>en-US</dc:language>
  <cp:lastModifiedBy>bbarto</cp:lastModifiedBy>
  <dcterms:modified xsi:type="dcterms:W3CDTF">2010-02-05T02:16:55Z</dcterms:modified>
  <cp:revision>26</cp:revision>
  <dc:subject/>
  <dc:title>Slide 1</dc:title>
</cp:coreProperties>
</file>