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098-7957-4FA6-9C18-95BA1470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606-BC30-4DC3-8861-51585D5B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6B2-400C-4193-9E06-DB568179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938-716B-4AC4-BEDC-3C6137F1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0AAA-984E-4D15-869D-81A485BB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DFF6-7C0A-4AE7-9F97-D3558276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1F5D-207A-47C4-8A75-055D3DFF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8EEE-15DC-4732-B50A-5F56299A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3C52-EA2A-4A51-B968-51D4395C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A792-7D5B-480C-80E7-551FF9B6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3F20-04C7-417A-9D06-370BF38E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5D7-D75C-4FE6-912D-872DC581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1343-D45A-49F5-9D89-FCE19743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484C-1B40-423E-A29A-A1BD9BB8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183C-6CE4-4075-91C1-FCB3247A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9322-5E38-43CE-A36B-4E3D358F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792D-2F6D-4DAA-82C6-17A14F84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33F35-340D-4733-81B2-6AD1B51C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CCEEE-F1FF-4C85-8328-38C049BC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1DD3-699B-457E-BF10-29BB8163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C784D-D121-4846-87DA-947130CC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F510-09C6-442D-BE72-B8381C7A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584-04EA-4C9F-97EB-F16720EF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B569-CF98-4A77-A88A-B8F7DC6F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DD40D-0893-482B-B0FC-33D6EA6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0A4D2-C76E-4E6A-8518-961E88F3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7D96-4995-440D-8887-20182F0C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EADAC-11D1-4A17-A3DC-3B64E210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25B3-E9CD-4FF8-8B7D-B4306E50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11A8-8898-4344-B13C-4B75EED7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835-35DB-450D-8E68-9B5C9780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4F2-1462-42F4-AA2C-035EF56C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2C3-C32D-43D7-BFB5-CC45A418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AFF-107E-47F1-9ABC-D0C35887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159-1661-4803-BBCF-39C3B587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C4A-A6E1-45B3-92A8-B7E65CC8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BA9B-040E-4129-8306-E9AFDA52A1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74FB-D531-4EA1-92C4-74DA644A01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F980-96F5-4E4F-B7A5-F45AD680B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kit.org/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nowledgeforum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81080" y="2514600"/>
            <a:ext cx="4572000" cy="12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rl Bereiter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fessor Emeritu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66680" y="4051080"/>
            <a:ext cx="65152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-director of the Education Commons at Ontario Institute for Studies in Education at the University of Toro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477120" y="457200"/>
            <a:ext cx="1646280" cy="1752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613560" y="2479680"/>
            <a:ext cx="13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594324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416) 923-6641 e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bereiter@oise.utoronto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0200" y="2424240"/>
            <a:ext cx="16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age from www.iki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reiter, C, &amp; Scardamalia, M. (1998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eyond Bloom'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axonomy: rethinking knowledge for the knowledge ag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veloping higher-level approaches to knowledg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http://ikit.org/fulltext/1998BeyondBlooms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l Bereiter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stitute for  Knowledge Innovation 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echnolo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 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ikit.org/people/~bereiter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AP :: Carl Bereiter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DAP :: Ontario Institute for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tudies in Education of the University of Toron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hdap.oise.utoronto.ca/Research/Faculty_Members/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essors_Emeriti/Carl_Bereiter/index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nowledge Building - a Definition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stitute for Knowledg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novation and Technolo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Retrieved February 4, 2010, 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ikit.org/kb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er profile. (n.d.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anadian Education Associ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rieved from www.cea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e.ca/foc.cfm?subsection=map&amp;page=bio&amp;subpage=c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founder of IKIT - Institute for Knowledge Innovation and 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ed CSIL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 US Academy of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shed in instruction, cognitive psychology, and education poli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IKI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ucts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s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s build communities aimed at advancing beyond ‘best practices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tional community pooling intellectual 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ledge building –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ontinuo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reation and improvement of ideas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952880" y="457200"/>
            <a:ext cx="204156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S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uter-Supported Intentional Learning Enviro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ed with Marlene Scardamal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etworked system for collaborative lear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 version –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Knowledge Foru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s used worldwide from primary grades to university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text and graphics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SILE Continu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s as communities: construction of knowledge is collective go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create nodes – pieces of information on a top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her students comment which creates dialogue and an accumulation of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refine thinking by reading and commenting on others wri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328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ticle: Beyond Bloom’s Taxonomy: Rethinking Knowledge for the Knowledge Age – Developing Higher-Level Approaches to Knowle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vels of Approach to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Level 0 to 7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: see knowledge as the way things 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understand one person may know something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nother does n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can relate things they know about a top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can take into account what the read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lready know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73988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vels of Approach to Knowledge Continu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: knowledge viewed from diffe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pecti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: students view themselves a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constructors of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: knowledge objects are improv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: knowledge objects become thing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one can relate to, use, manipulate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judge, and have feelings ab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705720" y="205740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-Writer of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urriculum Projec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4419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RA/Open Court B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se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Product Details"/>
          <p:cNvPicPr/>
          <p:nvPr/>
        </p:nvPicPr>
        <p:blipFill>
          <a:blip r:embed="rId2"/>
          <a:stretch/>
        </p:blipFill>
        <p:spPr>
          <a:xfrm>
            <a:off x="1828800" y="38862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809880" y="3962520"/>
            <a:ext cx="4114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al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ith online technology that includes e-textbook, e-games, and e-Math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Product Details"/>
          <p:cNvPicPr/>
          <p:nvPr/>
        </p:nvPicPr>
        <p:blipFill>
          <a:blip r:embed="rId4"/>
          <a:stretch/>
        </p:blipFill>
        <p:spPr>
          <a:xfrm>
            <a:off x="6400800" y="13716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167200" y="59850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ages from www.amaz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5715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shed in teac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&amp;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Teaching Disadvantaged Children in the Preschool (196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sychology of Written Composition (198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urpassing Ourselves: An Inquiry into the Nature and Implications of Expertise (199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 and Mind in the Knowledge Age (200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Education for the Knowledge Age: Design-centered Models of Teaching and Instruction (in the Handbook of Educational Psychology, 200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983240" y="575640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With M. Scarda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28840" y="571500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With S. Engl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248520" y="380880"/>
            <a:ext cx="1827000" cy="15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4:30:13Z</dcterms:created>
  <dc:creator>bbarto</dc:creator>
  <dc:description/>
  <dc:language>en-US</dc:language>
  <cp:lastModifiedBy>bbarto</cp:lastModifiedBy>
  <dcterms:modified xsi:type="dcterms:W3CDTF">2010-02-05T02:16:55Z</dcterms:modified>
  <cp:revision>26</cp:revision>
  <dc:subject/>
  <dc:title>Slide 1</dc:title>
</cp:coreProperties>
</file>