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8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10.wmf" ContentType="image/x-wmf"/>
  <Override PartName="/ppt/media/image6.wmf" ContentType="image/x-wmf"/>
  <Override PartName="/ppt/media/image9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F7B2-6AE6-4CA9-90EE-CE1D69A93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6FAB-013F-4680-82FD-4154AF52D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7A75-648C-4DDC-B367-DCA235ABB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7C97-B0C2-4DA0-9BEC-F9876CAC9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4A0B8-6056-49A2-825C-ED1B6431E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2AAB4-161C-4A28-9F75-E06E4E3A9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C9077-C51F-4F34-B307-AEDD7D32A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41E6D-4E90-419B-904F-29476BAC6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E431A-9B9D-4A7D-B0D5-6213B716E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3E68B-358B-47AA-838E-29D48243E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56E69-6735-4D34-957F-11B3FC712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667C-41A3-4B67-872F-319B2DEA6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1C9B3-CBA1-4D03-BC0B-6491842C8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1C58C-38DE-45AF-86D4-19F1EBE71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2FC68-134F-4A67-B03E-7727C03DD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DA383-7328-4DC3-88E2-48E9685A4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A465A-AD06-43BB-9595-00D597019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C59A49-B9BC-44BA-A916-1F9C1A2DE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CF8187-74AB-405A-92FC-D314D5EF0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601C97-AD9F-4580-9A01-EEAD43F28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A508BE-66DA-4DF4-A8FA-F8CB1D986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F70C8B-4E93-4B10-AF5B-A4F5EA0B7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8425-ACC2-4508-BC5B-44C0892E4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86D14E-D7E7-471F-8701-64108C724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25DCDE-48A4-4237-B2F6-695EDB371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4B9849-2991-430A-871F-530B7667B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427A69-8549-43BA-A403-D0A307D40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4481B3-432D-477F-B46C-0F50381F0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6FCFE5-58DB-427F-9F18-A4CF73223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63AEBF-F82E-404E-BAB8-3DD90C04A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4430-E821-4F6A-9150-614695F92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66DC-216C-4AA9-87D9-796A70872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F097-A5A9-42F5-89E0-AFD444993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7AA5-26C4-403D-A68C-D90BB0CCD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8749-70DB-4ABB-8886-04075CEB1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BAFE-BC0F-4DE8-9868-20730102D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3BD64-158C-4C62-99E2-EAC53710AC91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06F69-13F1-45B8-B39C-6E373066AAA8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6B68C-B8C9-4069-8A64-94C29A0DF5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ikit.org/" TargetMode="External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nowledgeforum.com/" TargetMode="Externa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81080" y="2514600"/>
            <a:ext cx="4572000" cy="12700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arl Bereiter</a:t>
            </a:r>
            <a:br>
              <a:rPr sz="4400"/>
            </a:b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Professor Emeritus</a:t>
            </a:r>
            <a:endParaRPr b="0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066680" y="4051080"/>
            <a:ext cx="651528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-director of the Education Commons at Ontario Institute for Studies in Education at the University of Toron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6477120" y="457200"/>
            <a:ext cx="1646280" cy="175248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6613560" y="2479680"/>
            <a:ext cx="1387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5943240"/>
            <a:ext cx="311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416) 923-6641 et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bereiter@oise.utoronto.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370200" y="2424240"/>
            <a:ext cx="1668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Image from www.iki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6870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Comic Sans MS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761760"/>
            <a:ext cx="7924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ereiter, C, &amp; Scardamalia, M. (1998).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Beyond Bloom'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taxonomy: rethinking knowledge for the knowledge age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developing higher-level approaches to knowledg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 Retrieve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rom http://ikit.org/fulltext/1998BeyondBlooms.pdf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arl Bereiter. (n.d.).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Institute for  Knowledge Innovation and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Technology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 Retrieved from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ttp://www.ikit.org/people/~bereiter.htm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DAP :: Carl Bereiter. (n.d.).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HDAP :: Ontario Institute for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Studies in Education of the University of Toronto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 Retrieved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rom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ttp://hdap.oise.utoronto.ca/Research/Faculty_Members/Pr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fessors_Emeriti/Carl_Bereiter/index.htm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Knowledge Building - a Definition. (n.d.).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Institute for Knowledge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Innovation and Technology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 Retrieved February 4, 2010, from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ttp://ikit.org/kb.htm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er profile. (n.d.).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Canadian Education Association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trieved from www.cea-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ce.ca/foc.cfm?subsection=map&amp;page=bio&amp;subpage=cb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6870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founder of IKIT - Institute for Knowledge Innovation and Technolog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eveloped CSILE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ember US Academy of Educ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ublished in instruction, cognitive psychology, and education polic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6870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b200"/>
                </a:solidFill>
                <a:uFillTx/>
                <a:latin typeface="Comic Sans MS"/>
                <a:hlinkClick r:id="rId2"/>
              </a:rPr>
              <a:t>IKI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ducts research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velops technolog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elps build communities aimed at advancing beyond ‘best practices’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ternational community pooling intellectual resourc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nowledge building –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continuou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creation and improvement of ideas;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3"/>
          <a:stretch/>
        </p:blipFill>
        <p:spPr>
          <a:xfrm>
            <a:off x="4952880" y="457200"/>
            <a:ext cx="2041560" cy="197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61760" y="228600"/>
            <a:ext cx="6870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SI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mputer-Supported Intentional Learning Environmen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veloped with Marlene Scardamali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networked system for collaborative learn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urrent version – 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2"/>
              </a:rPr>
              <a:t>Knowledge Forum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is used worldwide from primary grades to university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as text and graphics capabiliti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762120"/>
            <a:ext cx="6870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SILE Continu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chools as communities: construction of knowledge is collective goa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udents create nodes – pieces of information on a topic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ther students comment which creates dialogue and an accumulation of knowledg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udents refine thinking by reading and commenting on others writ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5791320" y="304920"/>
            <a:ext cx="1752480" cy="175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3281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rticle: Beyond Bloom’s Taxonomy: Rethinking Knowledge for the Knowledge Age – Developing Higher-Level Approaches to Knowledg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6960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evels of Approach to Knowledg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rom Level 0 to 7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: see knowledge as the way things ar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: understand one person may know something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another does no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: can relate things they know about a topi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: can take into account what the reader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already know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6858000" y="1828800"/>
            <a:ext cx="1739880" cy="183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61760" y="304920"/>
            <a:ext cx="6870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Levels of Approach to Knowledge Continued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80520" y="1905120"/>
            <a:ext cx="80010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: knowledge viewed from differen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erspectiv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5: students view themselves as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constructors of knowledg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6: knowledge objects are improvab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7: knowledge objects become things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at one can relate to, use, manipulate,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judge, and have feelings abou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6705720" y="2057400"/>
            <a:ext cx="1962000" cy="187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5257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o-Writer of</a:t>
            </a:r>
            <a:br>
              <a:rPr sz="4000"/>
            </a:br>
            <a:r>
              <a:rPr b="0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Curriculum Project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057040" y="1828440"/>
            <a:ext cx="4419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RA/Open Court Book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ading seri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6" name="" descr="Product Details"/>
          <p:cNvPicPr/>
          <p:nvPr/>
        </p:nvPicPr>
        <p:blipFill>
          <a:blip r:embed="rId2"/>
          <a:stretch/>
        </p:blipFill>
        <p:spPr>
          <a:xfrm>
            <a:off x="1828800" y="3886200"/>
            <a:ext cx="1752480" cy="175248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3809880" y="3962520"/>
            <a:ext cx="411480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Real M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With online technology that includes e-textbook, e-games, and e-Math too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457200" y="190512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Product Details"/>
          <p:cNvPicPr/>
          <p:nvPr/>
        </p:nvPicPr>
        <p:blipFill>
          <a:blip r:embed="rId4"/>
          <a:stretch/>
        </p:blipFill>
        <p:spPr>
          <a:xfrm>
            <a:off x="6400800" y="1371600"/>
            <a:ext cx="1905120" cy="190512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2167200" y="5985000"/>
            <a:ext cx="360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mages from www.amazon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5715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ublished in teach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&amp; learn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Comic Sans MS"/>
              </a:rPr>
              <a:t>Teaching Disadvantaged Children in the Preschool (1966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Psychology of Written Composition (1987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Surpassing Ourselves: An Inquiry into the Nature and Implications of Expertise (1993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ducation and Mind in the Knowledge Age (2002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Education for the Knowledge Age: Design-centered Models of Teaching and Instruction (in the Handbook of Educational Psychology, 2006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"/>
          <p:cNvSpPr/>
          <p:nvPr/>
        </p:nvSpPr>
        <p:spPr>
          <a:xfrm>
            <a:off x="1983240" y="5756400"/>
            <a:ext cx="237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dff"/>
                </a:solidFill>
                <a:latin typeface="Comic Sans MS"/>
              </a:rPr>
              <a:t>With M. Scardamal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028840" y="5715000"/>
            <a:ext cx="206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99"/>
                </a:solidFill>
                <a:latin typeface="Comic Sans MS"/>
              </a:rPr>
              <a:t>With S. Engle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6248520" y="380880"/>
            <a:ext cx="1827000" cy="1506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8T14:30:13Z</dcterms:created>
  <dc:creator>bbarto</dc:creator>
  <dc:description/>
  <dc:language>en-US</dc:language>
  <cp:lastModifiedBy>bbarto</cp:lastModifiedBy>
  <dcterms:modified xsi:type="dcterms:W3CDTF">2010-02-05T02:16:55Z</dcterms:modified>
  <cp:revision>26</cp:revision>
  <dc:subject/>
  <dc:title>Slide 1</dc:title>
</cp:coreProperties>
</file>