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4DD-2D10-40D1-BDE0-3871A3FB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346-CBED-4EA3-A8B4-D337B83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CD3-A0A1-41E0-8D31-16D9F9F3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7BF-6C7D-43B3-B436-8FCF3D2A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79D-29C3-43F4-8A0C-2377A74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3771-71A2-4E15-9602-3052FD30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A654-52CC-4CE5-AFE7-E61C17E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552-1AA9-4AE4-85D4-35A8C2A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5D35-8AB6-403B-8C16-7B74C54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7723-2E21-4F1A-826C-7F78601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AD7-6F38-423C-80CA-46CE707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523-D46E-4EDF-BADE-C175D369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0A05-10EE-4763-B1C7-23B79D7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73E-6404-4A99-A457-40484F5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BCB-A658-41E5-B823-2FEC44B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169E-ECB0-4CE8-9C8D-B186906C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FF0D-5DED-4289-94EB-6964D3CB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B15D-5598-402D-BEFE-D677EF15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AB83-3AC8-42C5-B9FD-B9FAA1D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445B-71FD-4F5D-8C09-99E798B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B3C6-0AD5-4750-935A-20BEF6D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71E1-707C-4F83-87EE-BF0F0405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241-7630-4F8C-AD24-7DE7B12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0DDB-F6E1-4485-A4DB-2F4BCF0B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0D0D-2E9A-4DFA-9A2B-F04522E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D1AA-1A25-4EEC-9577-BD3AC5A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EB3D-7E90-4798-A3A6-CECCB62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2409-72D9-4566-99BA-61938DE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B252-9FEE-43CA-B6B6-32A0244F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1C9C-B59D-415C-8DAB-EF95291E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A56-38B9-48C7-AD16-FC63DB2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9CD-CE44-4585-B5E7-5099019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4CF-1085-4152-A8B0-36570060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20F-73A6-491D-81FF-9E03742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1F9-53EE-4F65-8AE9-0E689EA6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25C-88F7-4C57-A6C1-D997EFA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DB9-98BE-4EDB-8C5E-2899C9AA5A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19B-3118-4602-9285-A5D6A8F326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A691-D8E3-4DF0-B128-7761A855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kit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owledgeforum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457200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l Bereiter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fessor Emeritu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051080"/>
            <a:ext cx="65152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-director of the Education Commons at Ontario Institute for Studies in Education at the University of Tor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3560" y="247968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9432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16) 923-6641 e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bereiter@oise.utoront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0200" y="2424240"/>
            <a:ext cx="16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age from www.iki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eiter, C, &amp; Scardamalia, M. (1998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eyond Bloom'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xonomy: rethinking knowledge for the knowledge ag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veloping higher-level approaches to knowled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http://ikit.org/fulltext/1998BeyondBloom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 Knowledge Innovation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kit.org/people/~berei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AP :: 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DAP :: Ontario Institut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tudies in Education of the University of Toro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hdap.oise.utoronto.ca/Research/Faculty_Members/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essors_Emeriti/Carl_Bereiter/index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Building - a Definition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Knowledg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novation and 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ebruary 4, 2010,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kit.org/kb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er profile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nadian Education Associ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ved from www.cea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e.ca/foc.cfm?subsection=map&amp;page=bio&amp;subpage=c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founder of IKIT - Institute for Knowledge Innovation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ed CSI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US Academy of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instruction, cognitive psychology, and education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K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s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build communities aimed at advancing beyond ‘best practices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community pooling intellectual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building –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reation and improvement of idea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52880" y="457200"/>
            <a:ext cx="204156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-Supported Intentional Learning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with Marlene Scardama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ed system for collaborative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version –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Knowledge Foru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used worldwide from primary grades to university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text and graphics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s as communities: construction of knowledge is collective g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create nodes – pieces of information on a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students comment which creates dialogue and an accumulation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refine thinking by reading and commenting on others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2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icle: Beyond Bloom’s Taxonomy: Rethinking Knowledge for the Knowledge Age – Developing Higher-Level Approaches to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Approach to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Level 0 to 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: see knowledge as the way things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understand one person may know something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other does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can relate things they know about a top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can take into account what the r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lready kn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vels of Approach to Knowledge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: knowledge viewed from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: students view themselves 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onstructors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: knowledge objects are improv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: knowledge objects become th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one can relate to, use, manipulate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judge, and have feelings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05720" y="20574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-Writer of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rriculum Proje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RA/Open Court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se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Product Details"/>
          <p:cNvPicPr/>
          <p:nvPr/>
        </p:nvPicPr>
        <p:blipFill>
          <a:blip r:embed="rId2"/>
          <a:stretch/>
        </p:blipFill>
        <p:spPr>
          <a:xfrm>
            <a:off x="1828800" y="3886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9880" y="3962520"/>
            <a:ext cx="4114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al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technology that includes e-textbook, e-games, and e-Math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roduct Details"/>
          <p:cNvPicPr/>
          <p:nvPr/>
        </p:nvPicPr>
        <p:blipFill>
          <a:blip r:embed="rId4"/>
          <a:stretch/>
        </p:blipFill>
        <p:spPr>
          <a:xfrm>
            <a:off x="64008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67200" y="59850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s from www.amaz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shed in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amp;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Teaching Disadvantaged Children in the Preschool (19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sychology of Written Composition (198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passing Ourselves: An Inquiry into the Nature and Implications of Expertise (199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Mind in the Knowledge Age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ducation for the Knowledge Age: Design-centered Models of Teaching and Instruction (in the Handbook of Educational Psychology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83240" y="575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ith M. Scarda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8840" y="5715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With S. Engl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30:13Z</dcterms:created>
  <dc:creator>bbarto</dc:creator>
  <dc:description/>
  <dc:language>en-US</dc:language>
  <cp:lastModifiedBy>bbarto</cp:lastModifiedBy>
  <dcterms:modified xsi:type="dcterms:W3CDTF">2010-02-05T02:16:55Z</dcterms:modified>
  <cp:revision>26</cp:revision>
  <dc:subject/>
  <dc:title>Slide 1</dc:title>
</cp:coreProperties>
</file>